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50EE-C651-4839-A6A2-E9CC3945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450-96EC-4084-9932-854B77F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2DD-EE39-41E9-92F3-5BB2E16E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D2D-2F86-48EB-A224-8D71172F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71F6-4708-417C-92DF-8F85157C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D173-285C-4544-99EC-1A222ECD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64CD-A3AE-472D-8074-B043FB02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E492-1B11-478F-83B6-F75ADA00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FE51-8765-4000-B55F-BF724CA9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AECD-C322-4B38-BE04-DD7ACBE1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5E6E-9A02-4419-A342-C3E8780D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58B2-5FC8-4984-8415-55C14D5D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AB53-3E24-4976-B17C-EFC4A9BC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E8C5-B332-4BA5-A3FC-9D79C16F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AB63-A9B1-45D1-A42C-9FC8F040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9CC0-9955-48F4-91A1-20FBA5FAE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24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7520" y="20174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24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7520" y="416592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D7C35-D3C5-4D76-8D20-539A627A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B49-14E5-4FB5-B912-B9B7618E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747E-3730-41A5-B03D-861D29FF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A37-2F7F-4370-938F-D4AD218B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148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58B-9FDD-43CD-8BEA-E392DE30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2F6-1FD1-436D-9A30-1DED8153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4560" y="416592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F61-0DEB-4AAA-B25A-199108A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4560" y="20174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592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E9E2-8ABD-4494-9752-447FFAA2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148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44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172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AD4C8B-3F02-4079-BB2F-342CF6258F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812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20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6560" cy="474840"/>
              <a:chOff x="414360" y="2968560"/>
              <a:chExt cx="7365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22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2640" y="2968560"/>
                <a:ext cx="3682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70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91D9A84-EC20-4D86-813E-6F3727A63D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63440" y="214200"/>
            <a:ext cx="60800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雲林縣稅務局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租 稅 宣 導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主講人：土地稅科科長曾金花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8128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    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100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年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月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29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適用自用住宅用地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(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一生一次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出售前一年內未曾供營業或出租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辦竣戶籍登記（地上建物為土地所有權人、或其配偶、直系新屬所有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都市土地未起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或非都市土地未超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人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生享用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次為限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等親以外設籍人（設籍人身分證明、無租賃證明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440080" y="68580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227664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適用自用住宅用地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(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一生一屋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標楷體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出售前五年內未曾供營業或出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土地所有權人或其配偶、未成年子女於出售前設有戶籍且持有該住宅連續滿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都市土地未起過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1.5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公畝或非都市土地未超過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公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出售前土地所有權人或其配偶、未成年子女，無該自用住宅以外之房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6760" indent="-7095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出售前持有該土地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年以上。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標楷體"/>
              </a:rPr>
              <a:t>重購退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買賣時間需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年內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原出售土地與新購土地所有權同屬一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出售土地及新購土地上之房屋須為土地所有權人或配偶、直系親屬所有，辦竣戶籍登記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出售土地於前一年內無出租或營業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新購土地現值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（原出售土地現值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已繳納土地增值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例如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4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）＝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10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-----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大於已繳納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，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元可全數退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例如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43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4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）＝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---------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小於已繳納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5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，只能退回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  <a:ea typeface="標楷體"/>
              </a:rPr>
              <a:t>萬元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27664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已規定地價之土地應繳納地價稅；作農業使用的土地課徵田賦（目前停徵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地價稅納稅義務人：土地所有權人、管理機關、管理人、典權人、承領人、耕作權人、受託人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8/31----------11/1------ ---11/3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601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（納稅基凖日）    （開徵日）       （截止）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自用住宅優惠稅率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稅率千分之二（一般稅率千分之十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主動申請：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9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月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22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日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辦竣戶籍登記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土地所有權人或其配偶、直系親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沒有出租或營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都市土地面積未超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、非都市土地面積未超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公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一處的限制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土地所有權人、配偶及未成年之受扶養親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土地上房屋為土地所有權人或其配偶、直系親屬所有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43600" y="83808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905120"/>
            <a:ext cx="8991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一：夫擁有两筆土地，一處由夫設籍，另一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由妻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二：夫擁有两筆土地，一處由夫設籍，另一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由妻及已成年子女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或直系親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三：夫、妻各自擁有一筆土地，各自在自己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有土地上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四：夫、妻各自擁有一筆土地，各自在自己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有土地上設籍，並有已成年子女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情況五：夫有一筆土地，由夫、妻两人設籍，而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另有一筆土地由妻之直系親屬設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90960" y="914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05740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申請自用住宅優惠稅率應附資料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戶籍證明文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：戶口名簿或戶籍謄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建築改良物證明文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建物所有權狀影本或建築改良物登記簿謄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未辦建物所有權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次登記：建物測量成果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建築物建造執照或使用執照影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四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房屋基地坐落申明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其他有關證明文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：土地所有權人或設籍人無租賃關係申明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18288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自用住宅優惠稅率相關規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如所有權移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買賣、繼承、贈與共有物分割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應重新申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信託土地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自益信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如符合自用住宅用地規定，受託人持有期間准按自用住宅課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戶籍因故遷出實際上還是自己住，不符自用住宅要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夫妻持分共有土地，均符合自用住宅用地，仍應就自有部分分別申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原符合自用住宅因拆除改建，新建房屋尚在施工沒領到使用執照前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7280" y="99072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82880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張三在某縣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筆土地，甲地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7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平方公尺，毎平方公尺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萬元，乙地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6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平方公尺，毎平方公尺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8,80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元，假設該市累進起點地價為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7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萬元，又乙地按自用住宅用地稅率計課，請問張三應納地價稅若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1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甲地申報地價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面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 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70=7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地價總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7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1%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分之十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=700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2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乙地申報地價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面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 8,800*60=5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8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地價總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 5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8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元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*2%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千分之二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=10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3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甲地稅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+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乙地稅額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=7000+1056=8056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51814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58400" y="10666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標楷體"/>
              </a:rPr>
              <a:t>案例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標楷體"/>
              </a:rPr>
              <a:t>案例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52280"/>
            <a:ext cx="8153280" cy="11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李四在某縣有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筆土地，甲地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88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平方公尺，申報地價毎平方公尺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8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千元，乙地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80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平方公尺，申報地價毎平方公尺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4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千元，請問李四應納地價稅若干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246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+336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58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地價總額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58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-17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41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1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,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/17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2.42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未超過累進起點地價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17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1%=1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7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超過累進起點地價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未逹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倍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稅率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242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4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*1.5%=3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636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700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+3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6360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=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5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萬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3360</a:t>
            </a:r>
            <a:r>
              <a:rPr b="1" lang="en-US" sz="2600" spc="-1" strike="noStrike">
                <a:solidFill>
                  <a:srgbClr val="ff0000"/>
                </a:solidFill>
                <a:latin typeface="標楷體"/>
                <a:ea typeface="標楷體"/>
              </a:rPr>
              <a:t>元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---</a:t>
            </a:r>
            <a:r>
              <a:rPr b="1" lang="en-US" sz="2600" spc="-1" strike="noStrike">
                <a:solidFill>
                  <a:srgbClr val="3333cc"/>
                </a:solidFill>
                <a:latin typeface="標楷體"/>
                <a:ea typeface="標楷體"/>
              </a:rPr>
              <a:t>應納稅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106668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ahoma"/>
                <a:ea typeface="標楷體"/>
              </a:rPr>
              <a:t>簡報大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887480"/>
            <a:ext cx="6705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、土地建物【移轉案件】申報流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二、土地增值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三、地價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四、房屋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五、使用牌照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六、契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七、娛樂稅法令及稽徵實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地價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與農業經營不可分離：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5/1-5/31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向公所申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公共設施保留地：千分之六、千分之二、免稅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私有無償供公眾通行之道路土地免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法定空地除外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  <a:ea typeface="標楷體"/>
              </a:rPr>
              <a:t>區段徵收重劃土地：辦理期間全免，辦理完成減半徵收两年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房屋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838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課稅對象：固定於土地上的建築物，可用來居住、工作或營業；可增加房屋使用價值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納稅人：所有權人、現住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稅率：住家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.2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％、非住家非營業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％、營業用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核課期間：前一年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7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日起至當年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6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日止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繳納期限：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5/1-5/3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按月計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房屋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07840"/>
            <a:ext cx="8057880" cy="54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應納稅額＝房屋標準單價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面積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折舊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經歷年數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街路等級調整率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適用稅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減免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焚燬、坍塌、拆除至不堪居住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（停止課徵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災害毀損五成以上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（免徵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災害毀損三成以上不及五成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（減半徵收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專供飼養禽畜及農業生產用房屋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免徵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合法登記工廠、自有房屋、供直接生產使用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營業減半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慈善救濟事業、公益社團辦公用房屋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免徵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使用牌照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9200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開徵日期：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/1-4/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按日計算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）。營業用（上期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/1-4/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；下期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0/1-10/30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-811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免徵牌照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殘障人士本身有駕駛執照：身心障礙手冊、駕駛執照、行車執照、身分證及車輛所有人私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殘障人士沒有駕駛執照：心障礙手冊、行車執照、戶口名簿（車主與殘障者設同一戶籍）車輛所有人私章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毎戶以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標楷體"/>
              </a:rPr>
              <a:t>輛為限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使用牌照稅法令及實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  <a:ea typeface="標楷體"/>
              </a:rPr>
              <a:t>車子不用不要繳冤枉稅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出國長期不用（向監理站辦停駛登記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車輛老舊報廢（向監理站辦理註銷牌照登記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車子被偷或被扣押（向警察局報案；被政府機關扣押則憑所出具文件辦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6760" indent="-70956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車子賣掉但買受人拒不辦過戶手續（寄存證信函再至監理站辦理註銷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契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2362320"/>
          <a:ext cx="6934320" cy="416232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  <a:gridCol w="2311560"/>
              </a:tblGrid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契稅種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稅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納稅義務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買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買受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典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典權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交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交換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贈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受贈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分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分割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占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占有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1143000" y="182880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一、契稅種類、稅率、納稅義務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460960" y="914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契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2209680"/>
            <a:ext cx="83818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二、契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標楷體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以當地不動產評價委員會評定之標準價格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依法領買或標購公產或向法院標購拍賣之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動產，如買賣價格高於評定標準價格時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選擇較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的評定標準價格申報課徵契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308680" y="9144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契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286000"/>
            <a:ext cx="6324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8320" y="2249640"/>
          <a:ext cx="8077320" cy="4427280"/>
        </p:xfrm>
        <a:graphic>
          <a:graphicData uri="http://schemas.openxmlformats.org/drawingml/2006/table">
            <a:tbl>
              <a:tblPr/>
              <a:tblGrid>
                <a:gridCol w="3810240"/>
                <a:gridCol w="4267080"/>
              </a:tblGrid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一般移轉案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立約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法拍案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權利移轉證明書核發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產權糾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判決確定之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新建房屋由承受人取得使用執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核發使用執照之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6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向政府標購或領買公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政府機關核發權利移轉證明書之日起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30</a:t>
                      </a:r>
                      <a:r>
                        <a:rPr b="1" lang="en-US" sz="2800" spc="-1" strike="noStrike">
                          <a:solidFill>
                            <a:srgbClr val="3333cc"/>
                          </a:solidFill>
                          <a:latin typeface="Tahoma"/>
                          <a:ea typeface="標楷體"/>
                        </a:rPr>
                        <a:t>日內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79640" y="1800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三、申報期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648160" y="914400"/>
            <a:ext cx="28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  <a:ea typeface="標楷體"/>
              </a:rPr>
              <a:t>娛樂稅法令及實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9810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一、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課稅範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電影、職業性歌唱、舞蹈、音樂演奏、各種競技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賽，高爾夫球場及其他提供娛樂設施供人娛樂者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二、納稅義務人：出價娛樂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三、課稅方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自動報繳、查定課徵、臨時公演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有售門票或收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標楷體"/>
                <a:ea typeface="標楷體"/>
              </a:rPr>
              <a:t>向稅捐機關辦理門票驗印，無收費者亦應報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352680"/>
            <a:ext cx="2360520" cy="151308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276720"/>
            <a:ext cx="2514600" cy="15127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32767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72200" y="32767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3048120"/>
            <a:ext cx="1371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3429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請領戶籍謄本及印鑑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4382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戶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2438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稅務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2438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鄉鎮公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438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地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32767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土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申報土地增值稅及地價稅查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34290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建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申報契稅及房屋稅查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3429000"/>
            <a:ext cx="12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辦理產權移轉登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土地建物【買賣】案件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876920"/>
            <a:ext cx="7924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應備證件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：土地登記申請書、公定契約書、買賣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雙方身分證明、賣方印鑑證明，土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建物所有權狀、繳費收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1932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土地建物【繼承】案件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9810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戶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19810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國稅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19810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稅務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地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5909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25909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590920"/>
            <a:ext cx="2360880" cy="1512720"/>
          </a:xfrm>
          <a:custGeom>
            <a:avLst/>
            <a:gdLst>
              <a:gd name="textAreaLeft" fmla="*/ 0 w 2360880"/>
              <a:gd name="textAreaRight" fmla="*/ 2361240 w 236088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2590920"/>
            <a:ext cx="2360520" cy="1512720"/>
          </a:xfrm>
          <a:custGeom>
            <a:avLst/>
            <a:gdLst>
              <a:gd name="textAreaLeft" fmla="*/ 0 w 2360520"/>
              <a:gd name="textAreaRight" fmla="*/ 2360880 w 23605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743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請領戶籍謄本及印鑑證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28195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遺產稅 申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340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地價房屋查欠。房屋納稅人名義變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8954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辦理產權登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648320"/>
            <a:ext cx="7467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419720"/>
            <a:ext cx="7925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應備證件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：土地登記申請書及登記清冊、繼承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統表、被繼承人除戶謄本及全體繼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人現戶謄本、全體繼承人印鑑證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土地 建物所有權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19320" y="9144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標楷體"/>
                <a:ea typeface="標楷體"/>
              </a:rPr>
              <a:t>土地建物【拍賣】案件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0574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稅務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鄉鎮公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981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地政事務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666880"/>
            <a:ext cx="2666880" cy="15130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2666880"/>
            <a:ext cx="2667240" cy="151308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666880"/>
            <a:ext cx="2743200" cy="15130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12408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土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查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工程受益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30481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建物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申報 契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32004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辦理產權登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4191120"/>
            <a:ext cx="8077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標楷體"/>
              </a:rPr>
              <a:t>應備證件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：土地登記申請書、登記清冊及契稅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報書、申請人身分證明、法院核發不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產權利移轉證書，建物登記謄本、房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  <a:ea typeface="標楷體"/>
              </a:rPr>
              <a:t>稅籍證明、繳費收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0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2400"/>
            <a:ext cx="77929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53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500" spc="-1" strike="noStrike">
                <a:solidFill>
                  <a:srgbClr val="3333cc"/>
                </a:solidFill>
                <a:latin typeface="Tahoma"/>
                <a:ea typeface="標楷體"/>
              </a:rPr>
              <a:t>土地所有權於移轉時，按土地漲價總數額採</a:t>
            </a:r>
            <a:r>
              <a:rPr b="1" lang="en-US" sz="2500" spc="-1" strike="noStrike">
                <a:solidFill>
                  <a:srgbClr val="ff0000"/>
                </a:solidFill>
                <a:latin typeface="Tahoma"/>
                <a:ea typeface="標楷體"/>
              </a:rPr>
              <a:t>倍數累進課稅。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納稅義務人：有償移轉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原所有權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          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無償移轉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取得所有權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          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設定典權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出典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稅率：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10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％（自用住宅用地）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漲價總數額超過原規定地價或前次移轉現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物價指數調整後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未逹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倍稅率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20%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、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至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倍稅率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30%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、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2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倍以上稅率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  <a:ea typeface="標楷體"/>
              </a:rPr>
              <a:t>40%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申報期限：訂定契約後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3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日內，逾期申報者，以收件日當期公告現值為移轉現值。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                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92360" y="83808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98108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免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各級政府出售或依法贈與之公有土地及受贈之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有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因繼承而移轉之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私人捐贈供興辦社福或私校使用之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被徵收之土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公共設施保留地尚未被徵收前移轉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依法得徵收之私有土地，所有權人自願按徵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補償地價售與需地機關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16040" y="7621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800360"/>
            <a:ext cx="884736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1080" indent="-81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不課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配偶相互贈與之土地，得申請不課徵土地增值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作農業使用之農業用地，移轉與自然人時，得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   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請不課徵土地增值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信託土地，各關係人間移轉所有權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(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委託人、受託人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依民法第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030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條之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600" spc="-1" strike="noStrike">
                <a:solidFill>
                  <a:srgbClr val="3333cc"/>
                </a:solidFill>
                <a:latin typeface="Tahoma"/>
                <a:ea typeface="標楷體"/>
              </a:rPr>
              <a:t>行使剩餘財產差額分配請求權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減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重劃後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次移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減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區段徵收領回抵價地後第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次移轉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減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1080" indent="-811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1080"/>
                <a:tab algn="l" pos="1725480"/>
                <a:tab algn="l" pos="2639880"/>
                <a:tab algn="l" pos="3554280"/>
                <a:tab algn="l" pos="4468680"/>
                <a:tab algn="l" pos="5383080"/>
                <a:tab algn="l" pos="6297480"/>
                <a:tab algn="l" pos="7211880"/>
                <a:tab algn="l" pos="8126280"/>
                <a:tab algn="l" pos="9040680"/>
                <a:tab algn="l" pos="9955080"/>
                <a:tab algn="l" pos="108694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  <a:ea typeface="標楷體"/>
              </a:rPr>
              <a:t>土地增值稅法令及實務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1080" indent="-811080"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標楷體"/>
              </a:rPr>
              <a:t>農業用地移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課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般移轉，不調高現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課徵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-----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一般移轉，調高現值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89/1/28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符合作農業使用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不課徵不調高現值（檢附農業用地作農業使用證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811080" indent="0">
              <a:spcBef>
                <a:spcPts val="700"/>
              </a:spcBef>
              <a:buNone/>
              <a:tabLst>
                <a:tab algn="l" pos="0"/>
                <a:tab algn="l" pos="1380960"/>
                <a:tab algn="l" pos="2295360"/>
                <a:tab algn="l" pos="3209760"/>
                <a:tab algn="l" pos="4124160"/>
                <a:tab algn="l" pos="5038560"/>
                <a:tab algn="l" pos="5952960"/>
                <a:tab algn="l" pos="6867360"/>
                <a:tab algn="l" pos="7781760"/>
                <a:tab algn="l" pos="8696160"/>
                <a:tab algn="l" pos="9610560"/>
                <a:tab algn="l" pos="10524960"/>
                <a:tab algn="l" pos="107823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◎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不課徵調高現值（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89/1/28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標楷體"/>
              </a:rPr>
              <a:t>符合作農業使用；農業用地作農業使用證明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7:01:20Z</dcterms:created>
  <dc:creator>mike</dc:creator>
  <dc:description/>
  <dc:language>en-US</dc:language>
  <cp:lastModifiedBy>A33278</cp:lastModifiedBy>
  <cp:lastPrinted>2011-07-29T01:01:54Z</cp:lastPrinted>
  <dcterms:modified xsi:type="dcterms:W3CDTF">2011-07-29T00:32:09Z</dcterms:modified>
  <cp:revision>40</cp:revision>
  <dc:subject/>
  <dc:title>土地增值稅法令及實務</dc:title>
</cp:coreProperties>
</file>