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61448-19CC-4DFC-9C28-242E3ABAC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14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592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792C6-DF63-47E7-B0D1-8364E7871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14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4560" y="20174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592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4560" y="416592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C9E46-132C-4D67-842A-46FBF237C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14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240" y="20174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7520" y="20174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592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240" y="416592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7520" y="416592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D6908-0C74-4448-8EA1-538DB985D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7DA4C-ABAD-46FB-9E67-0D61D8D1E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14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44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5126F-5A41-4621-AACD-EC99FA723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14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102EA-4A45-4F3E-B920-D2CE7DDD2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14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4560" y="201744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A76BF-6681-41E3-A83B-363C3A25F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14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ADF1A-2D29-4E76-A1B4-460AFB441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213840"/>
            <a:ext cx="779148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7ECBC-9601-45D3-97D3-A6E2E3272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14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4560" y="201744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592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BE5C6-0D6B-4E36-82A0-63F2F3B10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14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44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5A985-5F37-44BC-839F-30CC247A6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14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4560" y="20174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4560" y="416592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97307-9E12-4441-B836-A748AF192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14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4560" y="20174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592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B3A6E-C313-449D-995C-AEE48296D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14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592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C4846-E52B-47AA-A78D-1D0EB066B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14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4560" y="20174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592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4560" y="416592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243C6-4E31-43B2-9050-5ADAD0073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14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240" y="20174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7520" y="20174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592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240" y="416592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7520" y="416592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F1B54-C4BE-410F-A692-2EC327D73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14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B86CE-5D76-4259-B7EA-58F3F0010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14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4560" y="201744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BF80A-E7B5-45D1-9B4F-C6CEA1502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14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6552E-A12A-4A91-B722-5E59A9E19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3840"/>
            <a:ext cx="779148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F5903-650E-4044-9707-DC56C16E1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14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4560" y="201744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592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A1DD6-BAD2-4CEF-A89A-06B807242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14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4560" y="20174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4560" y="416592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66ADC-44A2-4976-B47F-131D21941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14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4560" y="20174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592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B339F-FBE9-4B09-BDC3-3778EEDE5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14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44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1720" y="6243480"/>
            <a:ext cx="1903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404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3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C662673-D186-4AAC-8BF5-4138A470A3EA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812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20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6560" cy="474840"/>
              <a:chOff x="414360" y="2968560"/>
              <a:chExt cx="73656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228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2640" y="2968560"/>
                <a:ext cx="36828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360" y="1676160"/>
            <a:ext cx="777060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76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D67C9E7F-E89F-4836-8ED7-9F977C4077E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863440" y="214200"/>
            <a:ext cx="60800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5400" spc="-1" strike="noStrike">
                <a:solidFill>
                  <a:srgbClr val="333399"/>
                </a:solidFill>
                <a:latin typeface="Tahoma"/>
                <a:ea typeface="標楷體"/>
              </a:rPr>
              <a:t>雲林縣稅務局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62120" y="2285640"/>
            <a:ext cx="777240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1382760"/>
                <a:tab algn="l" pos="2297160"/>
                <a:tab algn="l" pos="3211560"/>
                <a:tab algn="l" pos="4125960"/>
                <a:tab algn="l" pos="5040360"/>
                <a:tab algn="l" pos="5954760"/>
                <a:tab algn="l" pos="6869160"/>
                <a:tab algn="l" pos="7783560"/>
                <a:tab algn="l" pos="8697960"/>
                <a:tab algn="l" pos="9612360"/>
                <a:tab algn="l" pos="10526760"/>
                <a:tab algn="l" pos="1078236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ahoma"/>
                <a:ea typeface="標楷體"/>
              </a:rPr>
              <a:t>租 稅 宣 導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81288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1382760"/>
                <a:tab algn="l" pos="2297160"/>
                <a:tab algn="l" pos="3211560"/>
                <a:tab algn="l" pos="4125960"/>
                <a:tab algn="l" pos="5040360"/>
                <a:tab algn="l" pos="5954760"/>
                <a:tab algn="l" pos="6869160"/>
                <a:tab algn="l" pos="7783560"/>
                <a:tab algn="l" pos="8697960"/>
                <a:tab algn="l" pos="9612360"/>
                <a:tab algn="l" pos="1052676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81288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1382760"/>
                <a:tab algn="l" pos="2297160"/>
                <a:tab algn="l" pos="3211560"/>
                <a:tab algn="l" pos="4125960"/>
                <a:tab algn="l" pos="5040360"/>
                <a:tab algn="l" pos="5954760"/>
                <a:tab algn="l" pos="6869160"/>
                <a:tab algn="l" pos="7783560"/>
                <a:tab algn="l" pos="8697960"/>
                <a:tab algn="l" pos="9612360"/>
                <a:tab algn="l" pos="10526760"/>
                <a:tab algn="l" pos="1078236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ahoma"/>
                <a:ea typeface="標楷體"/>
              </a:rPr>
              <a:t>主講人：土地稅科科長曾金花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81288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1382760"/>
                <a:tab algn="l" pos="2297160"/>
                <a:tab algn="l" pos="3211560"/>
                <a:tab algn="l" pos="4125960"/>
                <a:tab algn="l" pos="5040360"/>
                <a:tab algn="l" pos="5954760"/>
                <a:tab algn="l" pos="6869160"/>
                <a:tab algn="l" pos="7783560"/>
                <a:tab algn="l" pos="8697960"/>
                <a:tab algn="l" pos="9612360"/>
                <a:tab algn="l" pos="1052676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81288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1382760"/>
                <a:tab algn="l" pos="2297160"/>
                <a:tab algn="l" pos="3211560"/>
                <a:tab algn="l" pos="4125960"/>
                <a:tab algn="l" pos="5040360"/>
                <a:tab algn="l" pos="5954760"/>
                <a:tab algn="l" pos="6869160"/>
                <a:tab algn="l" pos="7783560"/>
                <a:tab algn="l" pos="8697960"/>
                <a:tab algn="l" pos="9612360"/>
                <a:tab algn="l" pos="10526760"/>
                <a:tab algn="l" pos="1078236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ahoma"/>
                <a:ea typeface="標楷體"/>
              </a:rPr>
              <a:t>    </a:t>
            </a:r>
            <a:r>
              <a:rPr b="1" lang="en-US" sz="4400" spc="-1" strike="noStrike">
                <a:solidFill>
                  <a:srgbClr val="3333cc"/>
                </a:solidFill>
                <a:latin typeface="Tahoma"/>
                <a:ea typeface="標楷體"/>
              </a:rPr>
              <a:t>100</a:t>
            </a:r>
            <a:r>
              <a:rPr b="1" lang="en-US" sz="4400" spc="-1" strike="noStrike">
                <a:solidFill>
                  <a:srgbClr val="3333cc"/>
                </a:solidFill>
                <a:latin typeface="Tahoma"/>
                <a:ea typeface="標楷體"/>
              </a:rPr>
              <a:t>年</a:t>
            </a:r>
            <a:r>
              <a:rPr b="1" lang="en-US" sz="4400" spc="-1" strike="noStrike">
                <a:solidFill>
                  <a:srgbClr val="3333cc"/>
                </a:solidFill>
                <a:latin typeface="Tahoma"/>
                <a:ea typeface="標楷體"/>
              </a:rPr>
              <a:t>7</a:t>
            </a:r>
            <a:r>
              <a:rPr b="1" lang="en-US" sz="4400" spc="-1" strike="noStrike">
                <a:solidFill>
                  <a:srgbClr val="3333cc"/>
                </a:solidFill>
                <a:latin typeface="Tahoma"/>
                <a:ea typeface="標楷體"/>
              </a:rPr>
              <a:t>月</a:t>
            </a:r>
            <a:r>
              <a:rPr b="1" lang="en-US" sz="4400" spc="-1" strike="noStrike">
                <a:solidFill>
                  <a:srgbClr val="3333cc"/>
                </a:solidFill>
                <a:latin typeface="Tahoma"/>
                <a:ea typeface="標楷體"/>
              </a:rPr>
              <a:t>29</a:t>
            </a:r>
            <a:r>
              <a:rPr b="1" lang="en-US" sz="4400" spc="-1" strike="noStrike">
                <a:solidFill>
                  <a:srgbClr val="3333cc"/>
                </a:solidFill>
                <a:latin typeface="Tahoma"/>
                <a:ea typeface="標楷體"/>
              </a:rPr>
              <a:t>日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5400" spc="-1" strike="noStrike">
                <a:solidFill>
                  <a:srgbClr val="333399"/>
                </a:solidFill>
                <a:latin typeface="Tahoma"/>
                <a:ea typeface="標楷體"/>
              </a:rPr>
              <a:t>土地增值稅法令及實務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11280" y="2276640"/>
            <a:ext cx="8137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1080" indent="-811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1380960"/>
                <a:tab algn="l" pos="2295360"/>
                <a:tab algn="l" pos="3209760"/>
                <a:tab algn="l" pos="4124160"/>
                <a:tab algn="l" pos="5038560"/>
                <a:tab algn="l" pos="5952960"/>
                <a:tab algn="l" pos="6867360"/>
                <a:tab algn="l" pos="7781760"/>
                <a:tab algn="l" pos="8696160"/>
                <a:tab algn="l" pos="9610560"/>
                <a:tab algn="l" pos="10524960"/>
                <a:tab algn="l" pos="1078236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ahoma"/>
                <a:ea typeface="標楷體"/>
              </a:rPr>
              <a:t>適用自用住宅用地</a:t>
            </a:r>
            <a:r>
              <a:rPr b="1" lang="en-US" sz="4000" spc="-1" strike="noStrike">
                <a:solidFill>
                  <a:srgbClr val="ff9900"/>
                </a:solidFill>
                <a:latin typeface="Tahoma"/>
                <a:ea typeface="標楷體"/>
              </a:rPr>
              <a:t>(</a:t>
            </a:r>
            <a:r>
              <a:rPr b="1" lang="en-US" sz="4000" spc="-1" strike="noStrike">
                <a:solidFill>
                  <a:srgbClr val="ff9900"/>
                </a:solidFill>
                <a:latin typeface="Tahoma"/>
                <a:ea typeface="標楷體"/>
              </a:rPr>
              <a:t>一生一次</a:t>
            </a:r>
            <a:r>
              <a:rPr b="1" lang="en-US" sz="4000" spc="-1" strike="noStrike">
                <a:solidFill>
                  <a:srgbClr val="ff9900"/>
                </a:solidFill>
                <a:latin typeface="Tahoma"/>
                <a:ea typeface="標楷體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lvl="1" marL="1166760" indent="-7095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"/>
              <a:tabLst>
                <a:tab algn="l" pos="1380960"/>
                <a:tab algn="l" pos="2295360"/>
                <a:tab algn="l" pos="3209760"/>
                <a:tab algn="l" pos="4124160"/>
                <a:tab algn="l" pos="5038560"/>
                <a:tab algn="l" pos="5952960"/>
                <a:tab algn="l" pos="6867360"/>
                <a:tab algn="l" pos="7781760"/>
                <a:tab algn="l" pos="8696160"/>
                <a:tab algn="l" pos="9610560"/>
                <a:tab algn="l" pos="10524960"/>
                <a:tab algn="l" pos="1078236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Tahoma"/>
                <a:ea typeface="標楷體"/>
              </a:rPr>
              <a:t>出售前一年內未曾供營業或出租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1166760" indent="-7095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"/>
              <a:tabLst>
                <a:tab algn="l" pos="1380960"/>
                <a:tab algn="l" pos="2295360"/>
                <a:tab algn="l" pos="3209760"/>
                <a:tab algn="l" pos="4124160"/>
                <a:tab algn="l" pos="5038560"/>
                <a:tab algn="l" pos="5952960"/>
                <a:tab algn="l" pos="6867360"/>
                <a:tab algn="l" pos="7781760"/>
                <a:tab algn="l" pos="8696160"/>
                <a:tab algn="l" pos="9610560"/>
                <a:tab algn="l" pos="10524960"/>
                <a:tab algn="l" pos="1078236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Tahoma"/>
                <a:ea typeface="標楷體"/>
              </a:rPr>
              <a:t>辦竣戶籍登記（地上建物為土地所有權人、或其配偶、直系新屬所有）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1166760" indent="-7095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"/>
              <a:tabLst>
                <a:tab algn="l" pos="1380960"/>
                <a:tab algn="l" pos="2295360"/>
                <a:tab algn="l" pos="3209760"/>
                <a:tab algn="l" pos="4124160"/>
                <a:tab algn="l" pos="5038560"/>
                <a:tab algn="l" pos="5952960"/>
                <a:tab algn="l" pos="6867360"/>
                <a:tab algn="l" pos="7781760"/>
                <a:tab algn="l" pos="8696160"/>
                <a:tab algn="l" pos="9610560"/>
                <a:tab algn="l" pos="10524960"/>
                <a:tab algn="l" pos="1078236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Tahoma"/>
                <a:ea typeface="標楷體"/>
              </a:rPr>
              <a:t>都市土地未起過</a:t>
            </a:r>
            <a:r>
              <a:rPr b="1" lang="en-US" sz="2600" spc="-1" strike="noStrike">
                <a:solidFill>
                  <a:srgbClr val="3333cc"/>
                </a:solidFill>
                <a:latin typeface="Tahoma"/>
                <a:ea typeface="標楷體"/>
              </a:rPr>
              <a:t>3</a:t>
            </a:r>
            <a:r>
              <a:rPr b="1" lang="en-US" sz="2600" spc="-1" strike="noStrike">
                <a:solidFill>
                  <a:srgbClr val="3333cc"/>
                </a:solidFill>
                <a:latin typeface="Tahoma"/>
                <a:ea typeface="標楷體"/>
              </a:rPr>
              <a:t>公畝或非都市土地未超過</a:t>
            </a:r>
            <a:r>
              <a:rPr b="1" lang="en-US" sz="2600" spc="-1" strike="noStrike">
                <a:solidFill>
                  <a:srgbClr val="3333cc"/>
                </a:solidFill>
                <a:latin typeface="Tahoma"/>
                <a:ea typeface="標楷體"/>
              </a:rPr>
              <a:t>7</a:t>
            </a:r>
            <a:r>
              <a:rPr b="1" lang="en-US" sz="2600" spc="-1" strike="noStrike">
                <a:solidFill>
                  <a:srgbClr val="3333cc"/>
                </a:solidFill>
                <a:latin typeface="Tahoma"/>
                <a:ea typeface="標楷體"/>
              </a:rPr>
              <a:t>公畝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1166760" indent="-7095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"/>
              <a:tabLst>
                <a:tab algn="l" pos="1380960"/>
                <a:tab algn="l" pos="2295360"/>
                <a:tab algn="l" pos="3209760"/>
                <a:tab algn="l" pos="4124160"/>
                <a:tab algn="l" pos="5038560"/>
                <a:tab algn="l" pos="5952960"/>
                <a:tab algn="l" pos="6867360"/>
                <a:tab algn="l" pos="7781760"/>
                <a:tab algn="l" pos="8696160"/>
                <a:tab algn="l" pos="9610560"/>
                <a:tab algn="l" pos="10524960"/>
                <a:tab algn="l" pos="1078236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Tahoma"/>
                <a:ea typeface="標楷體"/>
              </a:rPr>
              <a:t>1</a:t>
            </a:r>
            <a:r>
              <a:rPr b="1" lang="en-US" sz="2600" spc="-1" strike="noStrike">
                <a:solidFill>
                  <a:srgbClr val="3333cc"/>
                </a:solidFill>
                <a:latin typeface="Tahoma"/>
                <a:ea typeface="標楷體"/>
              </a:rPr>
              <a:t>人</a:t>
            </a:r>
            <a:r>
              <a:rPr b="1" lang="en-US" sz="2600" spc="-1" strike="noStrike">
                <a:solidFill>
                  <a:srgbClr val="3333cc"/>
                </a:solidFill>
                <a:latin typeface="Tahoma"/>
                <a:ea typeface="標楷體"/>
              </a:rPr>
              <a:t>1</a:t>
            </a:r>
            <a:r>
              <a:rPr b="1" lang="en-US" sz="2600" spc="-1" strike="noStrike">
                <a:solidFill>
                  <a:srgbClr val="3333cc"/>
                </a:solidFill>
                <a:latin typeface="Tahoma"/>
                <a:ea typeface="標楷體"/>
              </a:rPr>
              <a:t>生享用</a:t>
            </a:r>
            <a:r>
              <a:rPr b="1" lang="en-US" sz="2600" spc="-1" strike="noStrike">
                <a:solidFill>
                  <a:srgbClr val="3333cc"/>
                </a:solidFill>
                <a:latin typeface="Tahoma"/>
                <a:ea typeface="標楷體"/>
              </a:rPr>
              <a:t>1</a:t>
            </a:r>
            <a:r>
              <a:rPr b="1" lang="en-US" sz="2600" spc="-1" strike="noStrike">
                <a:solidFill>
                  <a:srgbClr val="3333cc"/>
                </a:solidFill>
                <a:latin typeface="Tahoma"/>
                <a:ea typeface="標楷體"/>
              </a:rPr>
              <a:t>次為限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1166760" indent="-7095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"/>
              <a:tabLst>
                <a:tab algn="l" pos="1380960"/>
                <a:tab algn="l" pos="2295360"/>
                <a:tab algn="l" pos="3209760"/>
                <a:tab algn="l" pos="4124160"/>
                <a:tab algn="l" pos="5038560"/>
                <a:tab algn="l" pos="5952960"/>
                <a:tab algn="l" pos="6867360"/>
                <a:tab algn="l" pos="7781760"/>
                <a:tab algn="l" pos="8696160"/>
                <a:tab algn="l" pos="9610560"/>
                <a:tab algn="l" pos="10524960"/>
                <a:tab algn="l" pos="1078236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Tahoma"/>
                <a:ea typeface="標楷體"/>
              </a:rPr>
              <a:t>3</a:t>
            </a:r>
            <a:r>
              <a:rPr b="1" lang="en-US" sz="2600" spc="-1" strike="noStrike">
                <a:solidFill>
                  <a:srgbClr val="3333cc"/>
                </a:solidFill>
                <a:latin typeface="Tahoma"/>
                <a:ea typeface="標楷體"/>
              </a:rPr>
              <a:t>等親以外設籍人（設籍人身分證明、無租賃證明）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2440080" y="685800"/>
            <a:ext cx="4295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5400" spc="-1" strike="noStrike">
                <a:solidFill>
                  <a:srgbClr val="333399"/>
                </a:solidFill>
                <a:latin typeface="Tahoma"/>
                <a:ea typeface="標楷體"/>
              </a:rPr>
              <a:t>土地增值稅法令及實務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1280" y="2276640"/>
            <a:ext cx="81374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11080" indent="-811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811080"/>
                <a:tab algn="l" pos="1725480"/>
                <a:tab algn="l" pos="2639880"/>
                <a:tab algn="l" pos="3554280"/>
                <a:tab algn="l" pos="4468680"/>
                <a:tab algn="l" pos="5383080"/>
                <a:tab algn="l" pos="6297480"/>
                <a:tab algn="l" pos="7211880"/>
                <a:tab algn="l" pos="8126280"/>
                <a:tab algn="l" pos="9040680"/>
                <a:tab algn="l" pos="9955080"/>
                <a:tab algn="l" pos="1086948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ahoma"/>
                <a:ea typeface="標楷體"/>
              </a:rPr>
              <a:t>適用自用住宅用地</a:t>
            </a:r>
            <a:r>
              <a:rPr b="1" lang="en-US" sz="4000" spc="-1" strike="noStrike">
                <a:solidFill>
                  <a:srgbClr val="ff9900"/>
                </a:solidFill>
                <a:latin typeface="Tahoma"/>
                <a:ea typeface="標楷體"/>
              </a:rPr>
              <a:t>(</a:t>
            </a:r>
            <a:r>
              <a:rPr b="1" lang="en-US" sz="4000" spc="-1" strike="noStrike">
                <a:solidFill>
                  <a:srgbClr val="ff9900"/>
                </a:solidFill>
                <a:latin typeface="Tahoma"/>
                <a:ea typeface="標楷體"/>
              </a:rPr>
              <a:t>一生一屋</a:t>
            </a:r>
            <a:r>
              <a:rPr b="1" lang="en-US" sz="4000" spc="-1" strike="noStrike">
                <a:solidFill>
                  <a:srgbClr val="ff9900"/>
                </a:solidFill>
                <a:latin typeface="Tahoma"/>
                <a:ea typeface="標楷體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1166760" indent="-709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"/>
              <a:tabLst>
                <a:tab algn="l" pos="811080"/>
                <a:tab algn="l" pos="1725480"/>
                <a:tab algn="l" pos="2639880"/>
                <a:tab algn="l" pos="3554280"/>
                <a:tab algn="l" pos="4468680"/>
                <a:tab algn="l" pos="5383080"/>
                <a:tab algn="l" pos="6297480"/>
                <a:tab algn="l" pos="7211880"/>
                <a:tab algn="l" pos="8126280"/>
                <a:tab algn="l" pos="9040680"/>
                <a:tab algn="l" pos="9955080"/>
                <a:tab algn="l" pos="1086948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標楷體"/>
                <a:ea typeface="標楷體"/>
              </a:rPr>
              <a:t>出售前五年內未曾供營業或出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66760" indent="-709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"/>
              <a:tabLst>
                <a:tab algn="l" pos="811080"/>
                <a:tab algn="l" pos="1725480"/>
                <a:tab algn="l" pos="2639880"/>
                <a:tab algn="l" pos="3554280"/>
                <a:tab algn="l" pos="4468680"/>
                <a:tab algn="l" pos="5383080"/>
                <a:tab algn="l" pos="6297480"/>
                <a:tab algn="l" pos="7211880"/>
                <a:tab algn="l" pos="8126280"/>
                <a:tab algn="l" pos="9040680"/>
                <a:tab algn="l" pos="9955080"/>
                <a:tab algn="l" pos="1086948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標楷體"/>
                <a:ea typeface="標楷體"/>
              </a:rPr>
              <a:t>土地所有權人或其配偶、未成年子女於出售前設有戶籍且持有該住宅連續滿</a:t>
            </a:r>
            <a:r>
              <a:rPr b="1" lang="en-US" sz="2800" spc="-1" strike="noStrike">
                <a:solidFill>
                  <a:srgbClr val="3333cc"/>
                </a:solidFill>
                <a:latin typeface="標楷體"/>
                <a:ea typeface="標楷體"/>
              </a:rPr>
              <a:t>6</a:t>
            </a:r>
            <a:r>
              <a:rPr b="1" lang="en-US" sz="2800" spc="-1" strike="noStrike">
                <a:solidFill>
                  <a:srgbClr val="3333cc"/>
                </a:solidFill>
                <a:latin typeface="標楷體"/>
                <a:ea typeface="標楷體"/>
              </a:rPr>
              <a:t>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66760" indent="-709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標楷體"/>
              <a:buChar char="•"/>
              <a:tabLst>
                <a:tab algn="l" pos="811080"/>
                <a:tab algn="l" pos="1725480"/>
                <a:tab algn="l" pos="2639880"/>
                <a:tab algn="l" pos="3554280"/>
                <a:tab algn="l" pos="4468680"/>
                <a:tab algn="l" pos="5383080"/>
                <a:tab algn="l" pos="6297480"/>
                <a:tab algn="l" pos="7211880"/>
                <a:tab algn="l" pos="8126280"/>
                <a:tab algn="l" pos="9040680"/>
                <a:tab algn="l" pos="9955080"/>
                <a:tab algn="l" pos="1086948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標楷體"/>
                <a:ea typeface="標楷體"/>
              </a:rPr>
              <a:t>都市土地未起過</a:t>
            </a:r>
            <a:r>
              <a:rPr b="1" lang="en-US" sz="2800" spc="-1" strike="noStrike">
                <a:solidFill>
                  <a:srgbClr val="3333cc"/>
                </a:solidFill>
                <a:latin typeface="標楷體"/>
                <a:ea typeface="標楷體"/>
              </a:rPr>
              <a:t>1.5</a:t>
            </a:r>
            <a:r>
              <a:rPr b="1" lang="en-US" sz="2800" spc="-1" strike="noStrike">
                <a:solidFill>
                  <a:srgbClr val="3333cc"/>
                </a:solidFill>
                <a:latin typeface="標楷體"/>
                <a:ea typeface="標楷體"/>
              </a:rPr>
              <a:t>公畝或非都市土地未超過</a:t>
            </a:r>
            <a:r>
              <a:rPr b="1" lang="en-US" sz="2800" spc="-1" strike="noStrike">
                <a:solidFill>
                  <a:srgbClr val="3333cc"/>
                </a:solidFill>
                <a:latin typeface="標楷體"/>
                <a:ea typeface="標楷體"/>
              </a:rPr>
              <a:t>3</a:t>
            </a:r>
            <a:r>
              <a:rPr b="1" lang="en-US" sz="2800" spc="-1" strike="noStrike">
                <a:solidFill>
                  <a:srgbClr val="3333cc"/>
                </a:solidFill>
                <a:latin typeface="標楷體"/>
                <a:ea typeface="標楷體"/>
              </a:rPr>
              <a:t>公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66760" indent="-709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標楷體"/>
              <a:buChar char="•"/>
              <a:tabLst>
                <a:tab algn="l" pos="811080"/>
                <a:tab algn="l" pos="1725480"/>
                <a:tab algn="l" pos="2639880"/>
                <a:tab algn="l" pos="3554280"/>
                <a:tab algn="l" pos="4468680"/>
                <a:tab algn="l" pos="5383080"/>
                <a:tab algn="l" pos="6297480"/>
                <a:tab algn="l" pos="7211880"/>
                <a:tab algn="l" pos="8126280"/>
                <a:tab algn="l" pos="9040680"/>
                <a:tab algn="l" pos="9955080"/>
                <a:tab algn="l" pos="1086948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標楷體"/>
                <a:ea typeface="標楷體"/>
              </a:rPr>
              <a:t>出售前土地所有權人或其配偶、未成年子女，無該自用住宅以外之房屋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66760" indent="-7095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"/>
              <a:tabLst>
                <a:tab algn="l" pos="811080"/>
                <a:tab algn="l" pos="1725480"/>
                <a:tab algn="l" pos="2639880"/>
                <a:tab algn="l" pos="3554280"/>
                <a:tab algn="l" pos="4468680"/>
                <a:tab algn="l" pos="5383080"/>
                <a:tab algn="l" pos="6297480"/>
                <a:tab algn="l" pos="7211880"/>
                <a:tab algn="l" pos="8126280"/>
                <a:tab algn="l" pos="9040680"/>
                <a:tab algn="l" pos="9955080"/>
                <a:tab algn="l" pos="1086948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標楷體"/>
                <a:ea typeface="標楷體"/>
              </a:rPr>
              <a:t>出售前持有該土地</a:t>
            </a:r>
            <a:r>
              <a:rPr b="1" lang="en-US" sz="2800" spc="-1" strike="noStrike">
                <a:solidFill>
                  <a:srgbClr val="3333cc"/>
                </a:solidFill>
                <a:latin typeface="標楷體"/>
                <a:ea typeface="標楷體"/>
              </a:rPr>
              <a:t>6</a:t>
            </a:r>
            <a:r>
              <a:rPr b="1" lang="en-US" sz="2800" spc="-1" strike="noStrike">
                <a:solidFill>
                  <a:srgbClr val="3333cc"/>
                </a:solidFill>
                <a:latin typeface="標楷體"/>
                <a:ea typeface="標楷體"/>
              </a:rPr>
              <a:t>年以上。</a:t>
            </a:r>
            <a:r>
              <a:rPr b="1" lang="en-US" sz="2600" spc="-1" strike="noStrike">
                <a:solidFill>
                  <a:srgbClr val="3333cc"/>
                </a:solidFill>
                <a:latin typeface="Tahoma"/>
                <a:ea typeface="標楷體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5400" spc="-1" strike="noStrike">
                <a:solidFill>
                  <a:srgbClr val="333399"/>
                </a:solidFill>
                <a:latin typeface="Tahoma"/>
                <a:ea typeface="標楷體"/>
              </a:rPr>
              <a:t>土地增值稅法令及實務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39640" y="2204640"/>
            <a:ext cx="822960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1080" indent="-811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1380960"/>
                <a:tab algn="l" pos="2295360"/>
                <a:tab algn="l" pos="3209760"/>
                <a:tab algn="l" pos="4124160"/>
                <a:tab algn="l" pos="5038560"/>
                <a:tab algn="l" pos="5952960"/>
                <a:tab algn="l" pos="6867360"/>
                <a:tab algn="l" pos="7781760"/>
                <a:tab algn="l" pos="8696160"/>
                <a:tab algn="l" pos="9610560"/>
                <a:tab algn="l" pos="10524960"/>
                <a:tab algn="l" pos="1078236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  <a:ea typeface="標楷體"/>
              </a:rPr>
              <a:t>重購退稅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1166760" indent="-7095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"/>
              <a:tabLst>
                <a:tab algn="l" pos="1380960"/>
                <a:tab algn="l" pos="2295360"/>
                <a:tab algn="l" pos="3209760"/>
                <a:tab algn="l" pos="4124160"/>
                <a:tab algn="l" pos="5038560"/>
                <a:tab algn="l" pos="5952960"/>
                <a:tab algn="l" pos="6867360"/>
                <a:tab algn="l" pos="7781760"/>
                <a:tab algn="l" pos="8696160"/>
                <a:tab algn="l" pos="9610560"/>
                <a:tab algn="l" pos="10524960"/>
                <a:tab algn="l" pos="1078236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  <a:ea typeface="標楷體"/>
              </a:rPr>
              <a:t>買賣時間需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  <a:ea typeface="標楷體"/>
              </a:rPr>
              <a:t>2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  <a:ea typeface="標楷體"/>
              </a:rPr>
              <a:t>年內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1166760" indent="-7095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"/>
              <a:tabLst>
                <a:tab algn="l" pos="1380960"/>
                <a:tab algn="l" pos="2295360"/>
                <a:tab algn="l" pos="3209760"/>
                <a:tab algn="l" pos="4124160"/>
                <a:tab algn="l" pos="5038560"/>
                <a:tab algn="l" pos="5952960"/>
                <a:tab algn="l" pos="6867360"/>
                <a:tab algn="l" pos="7781760"/>
                <a:tab algn="l" pos="8696160"/>
                <a:tab algn="l" pos="9610560"/>
                <a:tab algn="l" pos="10524960"/>
                <a:tab algn="l" pos="1078236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  <a:ea typeface="標楷體"/>
              </a:rPr>
              <a:t>原出售土地與新購土地所有權同屬一人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1166760" indent="-7095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"/>
              <a:tabLst>
                <a:tab algn="l" pos="1380960"/>
                <a:tab algn="l" pos="2295360"/>
                <a:tab algn="l" pos="3209760"/>
                <a:tab algn="l" pos="4124160"/>
                <a:tab algn="l" pos="5038560"/>
                <a:tab algn="l" pos="5952960"/>
                <a:tab algn="l" pos="6867360"/>
                <a:tab algn="l" pos="7781760"/>
                <a:tab algn="l" pos="8696160"/>
                <a:tab algn="l" pos="9610560"/>
                <a:tab algn="l" pos="10524960"/>
                <a:tab algn="l" pos="1078236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  <a:ea typeface="標楷體"/>
              </a:rPr>
              <a:t>出售土地及新購土地上之房屋須為土地所有權人或配偶、直系親屬所有，辦竣戶籍登記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1166760" indent="-7095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"/>
              <a:tabLst>
                <a:tab algn="l" pos="1380960"/>
                <a:tab algn="l" pos="2295360"/>
                <a:tab algn="l" pos="3209760"/>
                <a:tab algn="l" pos="4124160"/>
                <a:tab algn="l" pos="5038560"/>
                <a:tab algn="l" pos="5952960"/>
                <a:tab algn="l" pos="6867360"/>
                <a:tab algn="l" pos="7781760"/>
                <a:tab algn="l" pos="8696160"/>
                <a:tab algn="l" pos="9610560"/>
                <a:tab algn="l" pos="10524960"/>
                <a:tab algn="l" pos="1078236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  <a:ea typeface="標楷體"/>
              </a:rPr>
              <a:t>出售土地於前一年內無出租或營業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1166760" indent="-7095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"/>
              <a:tabLst>
                <a:tab algn="l" pos="1380960"/>
                <a:tab algn="l" pos="2295360"/>
                <a:tab algn="l" pos="3209760"/>
                <a:tab algn="l" pos="4124160"/>
                <a:tab algn="l" pos="5038560"/>
                <a:tab algn="l" pos="5952960"/>
                <a:tab algn="l" pos="6867360"/>
                <a:tab algn="l" pos="7781760"/>
                <a:tab algn="l" pos="8696160"/>
                <a:tab algn="l" pos="9610560"/>
                <a:tab algn="l" pos="10524960"/>
                <a:tab algn="l" pos="1078236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  <a:ea typeface="標楷體"/>
              </a:rPr>
              <a:t>新購土地現值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  <a:ea typeface="標楷體"/>
              </a:rPr>
              <a:t>-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  <a:ea typeface="標楷體"/>
              </a:rPr>
              <a:t>（原出售土地現值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  <a:ea typeface="標楷體"/>
              </a:rPr>
              <a:t>-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  <a:ea typeface="標楷體"/>
              </a:rPr>
              <a:t>已繳納土地增值稅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811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380960"/>
                <a:tab algn="l" pos="2295360"/>
                <a:tab algn="l" pos="3209760"/>
                <a:tab algn="l" pos="4124160"/>
                <a:tab algn="l" pos="5038560"/>
                <a:tab algn="l" pos="5952960"/>
                <a:tab algn="l" pos="6867360"/>
                <a:tab algn="l" pos="7781760"/>
                <a:tab algn="l" pos="8696160"/>
                <a:tab algn="l" pos="9610560"/>
                <a:tab algn="l" pos="10524960"/>
                <a:tab algn="l" pos="1078236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ahoma"/>
                <a:ea typeface="標楷體"/>
              </a:rPr>
              <a:t>例如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  <a:ea typeface="標楷體"/>
              </a:rPr>
              <a:t>1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  <a:ea typeface="標楷體"/>
              </a:rPr>
              <a:t>：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  <a:ea typeface="標楷體"/>
              </a:rPr>
              <a:t>500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  <a:ea typeface="標楷體"/>
              </a:rPr>
              <a:t>萬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  <a:ea typeface="標楷體"/>
              </a:rPr>
              <a:t>-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  <a:ea typeface="標楷體"/>
              </a:rPr>
              <a:t>（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  <a:ea typeface="標楷體"/>
              </a:rPr>
              <a:t>450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  <a:ea typeface="標楷體"/>
              </a:rPr>
              <a:t>萬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  <a:ea typeface="標楷體"/>
              </a:rPr>
              <a:t>-50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  <a:ea typeface="標楷體"/>
              </a:rPr>
              <a:t>萬）＝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  <a:ea typeface="標楷體"/>
              </a:rPr>
              <a:t>100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  <a:ea typeface="標楷體"/>
              </a:rPr>
              <a:t>萬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  <a:ea typeface="標楷體"/>
              </a:rPr>
              <a:t>-------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  <a:ea typeface="標楷體"/>
              </a:rPr>
              <a:t>大於已繳納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  <a:ea typeface="標楷體"/>
              </a:rPr>
              <a:t>50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  <a:ea typeface="標楷體"/>
              </a:rPr>
              <a:t>萬，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  <a:ea typeface="標楷體"/>
              </a:rPr>
              <a:t>50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  <a:ea typeface="標楷體"/>
              </a:rPr>
              <a:t>萬元可全數退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11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380960"/>
                <a:tab algn="l" pos="2295360"/>
                <a:tab algn="l" pos="3209760"/>
                <a:tab algn="l" pos="4124160"/>
                <a:tab algn="l" pos="5038560"/>
                <a:tab algn="l" pos="5952960"/>
                <a:tab algn="l" pos="6867360"/>
                <a:tab algn="l" pos="7781760"/>
                <a:tab algn="l" pos="8696160"/>
                <a:tab algn="l" pos="9610560"/>
                <a:tab algn="l" pos="10524960"/>
                <a:tab algn="l" pos="1078236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ahoma"/>
                <a:ea typeface="標楷體"/>
              </a:rPr>
              <a:t>例如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  <a:ea typeface="標楷體"/>
              </a:rPr>
              <a:t>2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  <a:ea typeface="標楷體"/>
              </a:rPr>
              <a:t>：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  <a:ea typeface="標楷體"/>
              </a:rPr>
              <a:t>430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  <a:ea typeface="標楷體"/>
              </a:rPr>
              <a:t>萬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  <a:ea typeface="標楷體"/>
              </a:rPr>
              <a:t>-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  <a:ea typeface="標楷體"/>
              </a:rPr>
              <a:t>（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  <a:ea typeface="標楷體"/>
              </a:rPr>
              <a:t>450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  <a:ea typeface="標楷體"/>
              </a:rPr>
              <a:t>萬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  <a:ea typeface="標楷體"/>
              </a:rPr>
              <a:t>-50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  <a:ea typeface="標楷體"/>
              </a:rPr>
              <a:t>萬）＝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  <a:ea typeface="標楷體"/>
              </a:rPr>
              <a:t>30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  <a:ea typeface="標楷體"/>
              </a:rPr>
              <a:t>萬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  <a:ea typeface="標楷體"/>
              </a:rPr>
              <a:t>---------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  <a:ea typeface="標楷體"/>
              </a:rPr>
              <a:t>小於已繳納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  <a:ea typeface="標楷體"/>
              </a:rPr>
              <a:t>50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  <a:ea typeface="標楷體"/>
              </a:rPr>
              <a:t>萬，只能退回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  <a:ea typeface="標楷體"/>
              </a:rPr>
              <a:t>30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  <a:ea typeface="標楷體"/>
              </a:rPr>
              <a:t>萬元。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  <a:ea typeface="標楷體"/>
              </a:rPr>
              <a:t>地價稅法令及實務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227664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1080" indent="-811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1380960"/>
                <a:tab algn="l" pos="2295360"/>
                <a:tab algn="l" pos="3209760"/>
                <a:tab algn="l" pos="4124160"/>
                <a:tab algn="l" pos="5038560"/>
                <a:tab algn="l" pos="5952960"/>
                <a:tab algn="l" pos="6867360"/>
                <a:tab algn="l" pos="7781760"/>
                <a:tab algn="l" pos="8696160"/>
                <a:tab algn="l" pos="9610560"/>
                <a:tab algn="l" pos="10524960"/>
                <a:tab algn="l" pos="1078236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ahoma"/>
                <a:ea typeface="標楷體"/>
              </a:rPr>
              <a:t>已規定地價之土地應繳納地價稅；作農業使用的土地課徵田賦（目前停徵）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811080" indent="-811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1380960"/>
                <a:tab algn="l" pos="2295360"/>
                <a:tab algn="l" pos="3209760"/>
                <a:tab algn="l" pos="4124160"/>
                <a:tab algn="l" pos="5038560"/>
                <a:tab algn="l" pos="5952960"/>
                <a:tab algn="l" pos="6867360"/>
                <a:tab algn="l" pos="7781760"/>
                <a:tab algn="l" pos="8696160"/>
                <a:tab algn="l" pos="9610560"/>
                <a:tab algn="l" pos="10524960"/>
                <a:tab algn="l" pos="1078236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ahoma"/>
                <a:ea typeface="標楷體"/>
              </a:rPr>
              <a:t>地價稅納稅義務人：土地所有權人、管理機關、管理人、典權人、承領人、耕作權人、受託人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811080" indent="-811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1380960"/>
                <a:tab algn="l" pos="2295360"/>
                <a:tab algn="l" pos="3209760"/>
                <a:tab algn="l" pos="4124160"/>
                <a:tab algn="l" pos="5038560"/>
                <a:tab algn="l" pos="5952960"/>
                <a:tab algn="l" pos="6867360"/>
                <a:tab algn="l" pos="7781760"/>
                <a:tab algn="l" pos="8696160"/>
                <a:tab algn="l" pos="9610560"/>
                <a:tab algn="l" pos="10524960"/>
                <a:tab algn="l" pos="1078236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ahoma"/>
                <a:ea typeface="標楷體"/>
              </a:rPr>
              <a:t>8/31----------11/1------ ---11/3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811080" indent="0">
              <a:spcBef>
                <a:spcPts val="601"/>
              </a:spcBef>
              <a:buNone/>
              <a:tabLst>
                <a:tab algn="l" pos="0"/>
                <a:tab algn="l" pos="1380960"/>
                <a:tab algn="l" pos="2295360"/>
                <a:tab algn="l" pos="3209760"/>
                <a:tab algn="l" pos="4124160"/>
                <a:tab algn="l" pos="5038560"/>
                <a:tab algn="l" pos="5952960"/>
                <a:tab algn="l" pos="6867360"/>
                <a:tab algn="l" pos="7781760"/>
                <a:tab algn="l" pos="8696160"/>
                <a:tab algn="l" pos="9610560"/>
                <a:tab algn="l" pos="10524960"/>
                <a:tab algn="l" pos="1078236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  <a:ea typeface="標楷體"/>
              </a:rPr>
              <a:t>  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標楷體"/>
              </a:rPr>
              <a:t>（納稅基凖日）    （開徵日）       （截止）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  <a:ea typeface="標楷體"/>
              </a:rPr>
              <a:t>地價稅法令及實務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51920" y="1905120"/>
            <a:ext cx="8991720" cy="48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1080" indent="-811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1380960"/>
                <a:tab algn="l" pos="2295360"/>
                <a:tab algn="l" pos="3209760"/>
                <a:tab algn="l" pos="4124160"/>
                <a:tab algn="l" pos="5038560"/>
                <a:tab algn="l" pos="5952960"/>
                <a:tab algn="l" pos="6867360"/>
                <a:tab algn="l" pos="7781760"/>
                <a:tab algn="l" pos="8696160"/>
                <a:tab algn="l" pos="9610560"/>
                <a:tab algn="l" pos="10524960"/>
                <a:tab algn="l" pos="1078236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ahoma"/>
                <a:ea typeface="標楷體"/>
              </a:rPr>
              <a:t>自用住宅優惠稅率：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811080" indent="-811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1380960"/>
                <a:tab algn="l" pos="2295360"/>
                <a:tab algn="l" pos="3209760"/>
                <a:tab algn="l" pos="4124160"/>
                <a:tab algn="l" pos="5038560"/>
                <a:tab algn="l" pos="5952960"/>
                <a:tab algn="l" pos="6867360"/>
                <a:tab algn="l" pos="7781760"/>
                <a:tab algn="l" pos="8696160"/>
                <a:tab algn="l" pos="9610560"/>
                <a:tab algn="l" pos="10524960"/>
                <a:tab algn="l" pos="1078236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標楷體"/>
              </a:rPr>
              <a:t>稅率千分之二（一般稅率千分之十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811080" indent="-811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1380960"/>
                <a:tab algn="l" pos="2295360"/>
                <a:tab algn="l" pos="3209760"/>
                <a:tab algn="l" pos="4124160"/>
                <a:tab algn="l" pos="5038560"/>
                <a:tab algn="l" pos="5952960"/>
                <a:tab algn="l" pos="6867360"/>
                <a:tab algn="l" pos="7781760"/>
                <a:tab algn="l" pos="8696160"/>
                <a:tab algn="l" pos="9610560"/>
                <a:tab algn="l" pos="10524960"/>
                <a:tab algn="l" pos="1078236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Tahoma"/>
                <a:ea typeface="標楷體"/>
              </a:rPr>
              <a:t>主動申請：</a:t>
            </a:r>
            <a:r>
              <a:rPr b="1" lang="en-US" sz="2600" spc="-1" strike="noStrike">
                <a:solidFill>
                  <a:srgbClr val="ff0000"/>
                </a:solidFill>
                <a:latin typeface="Tahoma"/>
                <a:ea typeface="標楷體"/>
              </a:rPr>
              <a:t>9</a:t>
            </a:r>
            <a:r>
              <a:rPr b="1" lang="en-US" sz="2600" spc="-1" strike="noStrike">
                <a:solidFill>
                  <a:srgbClr val="ff0000"/>
                </a:solidFill>
                <a:latin typeface="Tahoma"/>
                <a:ea typeface="標楷體"/>
              </a:rPr>
              <a:t>月</a:t>
            </a:r>
            <a:r>
              <a:rPr b="1" lang="en-US" sz="2600" spc="-1" strike="noStrike">
                <a:solidFill>
                  <a:srgbClr val="ff0000"/>
                </a:solidFill>
                <a:latin typeface="Tahoma"/>
                <a:ea typeface="標楷體"/>
              </a:rPr>
              <a:t>22</a:t>
            </a:r>
            <a:r>
              <a:rPr b="1" lang="en-US" sz="2600" spc="-1" strike="noStrike">
                <a:solidFill>
                  <a:srgbClr val="ff0000"/>
                </a:solidFill>
                <a:latin typeface="Tahoma"/>
                <a:ea typeface="標楷體"/>
              </a:rPr>
              <a:t>日前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811080" indent="-811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1380960"/>
                <a:tab algn="l" pos="2295360"/>
                <a:tab algn="l" pos="3209760"/>
                <a:tab algn="l" pos="4124160"/>
                <a:tab algn="l" pos="5038560"/>
                <a:tab algn="l" pos="5952960"/>
                <a:tab algn="l" pos="6867360"/>
                <a:tab algn="l" pos="7781760"/>
                <a:tab algn="l" pos="8696160"/>
                <a:tab algn="l" pos="9610560"/>
                <a:tab algn="l" pos="10524960"/>
                <a:tab algn="l" pos="1078236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Tahoma"/>
                <a:ea typeface="標楷體"/>
              </a:rPr>
              <a:t>辦竣戶籍登記</a:t>
            </a:r>
            <a:r>
              <a:rPr b="1" lang="en-US" sz="2600" spc="-1" strike="noStrike">
                <a:solidFill>
                  <a:srgbClr val="3333cc"/>
                </a:solidFill>
                <a:latin typeface="Tahoma"/>
                <a:ea typeface="標楷體"/>
              </a:rPr>
              <a:t>(</a:t>
            </a:r>
            <a:r>
              <a:rPr b="1" lang="en-US" sz="2600" spc="-1" strike="noStrike">
                <a:solidFill>
                  <a:srgbClr val="3333cc"/>
                </a:solidFill>
                <a:latin typeface="Tahoma"/>
                <a:ea typeface="標楷體"/>
              </a:rPr>
              <a:t>土地所有權人或其配偶、直系親屬</a:t>
            </a:r>
            <a:r>
              <a:rPr b="1" lang="en-US" sz="2600" spc="-1" strike="noStrike">
                <a:solidFill>
                  <a:srgbClr val="3333cc"/>
                </a:solidFill>
                <a:latin typeface="Tahoma"/>
                <a:ea typeface="標楷體"/>
              </a:rPr>
              <a:t>)</a:t>
            </a:r>
            <a:r>
              <a:rPr b="1" lang="en-US" sz="2600" spc="-1" strike="noStrike">
                <a:solidFill>
                  <a:srgbClr val="3333cc"/>
                </a:solidFill>
                <a:latin typeface="Tahoma"/>
                <a:ea typeface="標楷體"/>
              </a:rPr>
              <a:t>。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811080" indent="-811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1380960"/>
                <a:tab algn="l" pos="2295360"/>
                <a:tab algn="l" pos="3209760"/>
                <a:tab algn="l" pos="4124160"/>
                <a:tab algn="l" pos="5038560"/>
                <a:tab algn="l" pos="5952960"/>
                <a:tab algn="l" pos="6867360"/>
                <a:tab algn="l" pos="7781760"/>
                <a:tab algn="l" pos="8696160"/>
                <a:tab algn="l" pos="9610560"/>
                <a:tab algn="l" pos="10524960"/>
                <a:tab algn="l" pos="1078236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Tahoma"/>
                <a:ea typeface="標楷體"/>
              </a:rPr>
              <a:t>沒有出租或營業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811080" indent="-811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1380960"/>
                <a:tab algn="l" pos="2295360"/>
                <a:tab algn="l" pos="3209760"/>
                <a:tab algn="l" pos="4124160"/>
                <a:tab algn="l" pos="5038560"/>
                <a:tab algn="l" pos="5952960"/>
                <a:tab algn="l" pos="6867360"/>
                <a:tab algn="l" pos="7781760"/>
                <a:tab algn="l" pos="8696160"/>
                <a:tab algn="l" pos="9610560"/>
                <a:tab algn="l" pos="10524960"/>
                <a:tab algn="l" pos="1078236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Tahoma"/>
                <a:ea typeface="標楷體"/>
              </a:rPr>
              <a:t>都市土地面積未超過</a:t>
            </a:r>
            <a:r>
              <a:rPr b="1" lang="en-US" sz="2600" spc="-1" strike="noStrike">
                <a:solidFill>
                  <a:srgbClr val="3333cc"/>
                </a:solidFill>
                <a:latin typeface="Tahoma"/>
                <a:ea typeface="標楷體"/>
              </a:rPr>
              <a:t>3</a:t>
            </a:r>
            <a:r>
              <a:rPr b="1" lang="en-US" sz="2600" spc="-1" strike="noStrike">
                <a:solidFill>
                  <a:srgbClr val="3333cc"/>
                </a:solidFill>
                <a:latin typeface="Tahoma"/>
                <a:ea typeface="標楷體"/>
              </a:rPr>
              <a:t>公畝、非都市土地面積未超過</a:t>
            </a:r>
            <a:r>
              <a:rPr b="1" lang="en-US" sz="2600" spc="-1" strike="noStrike">
                <a:solidFill>
                  <a:srgbClr val="3333cc"/>
                </a:solidFill>
                <a:latin typeface="Tahoma"/>
                <a:ea typeface="標楷體"/>
              </a:rPr>
              <a:t>7</a:t>
            </a:r>
            <a:r>
              <a:rPr b="1" lang="en-US" sz="2600" spc="-1" strike="noStrike">
                <a:solidFill>
                  <a:srgbClr val="3333cc"/>
                </a:solidFill>
                <a:latin typeface="Tahoma"/>
                <a:ea typeface="標楷體"/>
              </a:rPr>
              <a:t>公畝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811080" indent="-811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1380960"/>
                <a:tab algn="l" pos="2295360"/>
                <a:tab algn="l" pos="3209760"/>
                <a:tab algn="l" pos="4124160"/>
                <a:tab algn="l" pos="5038560"/>
                <a:tab algn="l" pos="5952960"/>
                <a:tab algn="l" pos="6867360"/>
                <a:tab algn="l" pos="7781760"/>
                <a:tab algn="l" pos="8696160"/>
                <a:tab algn="l" pos="9610560"/>
                <a:tab algn="l" pos="10524960"/>
                <a:tab algn="l" pos="1078236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ahoma"/>
                <a:ea typeface="標楷體"/>
              </a:rPr>
              <a:t>一處的限制</a:t>
            </a:r>
            <a:r>
              <a:rPr b="1" lang="en-US" sz="2600" spc="-1" strike="noStrike">
                <a:solidFill>
                  <a:srgbClr val="3333cc"/>
                </a:solidFill>
                <a:latin typeface="Tahoma"/>
                <a:ea typeface="標楷體"/>
              </a:rPr>
              <a:t>(</a:t>
            </a:r>
            <a:r>
              <a:rPr b="1" lang="en-US" sz="2600" spc="-1" strike="noStrike">
                <a:solidFill>
                  <a:srgbClr val="3333cc"/>
                </a:solidFill>
                <a:latin typeface="Tahoma"/>
                <a:ea typeface="標楷體"/>
              </a:rPr>
              <a:t>土地所有權人、配偶及未成年之受扶養親屬</a:t>
            </a:r>
            <a:r>
              <a:rPr b="1" lang="en-US" sz="2600" spc="-1" strike="noStrike">
                <a:solidFill>
                  <a:srgbClr val="3333cc"/>
                </a:solidFill>
                <a:latin typeface="Tahoma"/>
                <a:ea typeface="標楷體"/>
              </a:rPr>
              <a:t>)</a:t>
            </a:r>
            <a:r>
              <a:rPr b="1" lang="en-US" sz="2600" spc="-1" strike="noStrike">
                <a:solidFill>
                  <a:srgbClr val="3333cc"/>
                </a:solidFill>
                <a:latin typeface="Tahoma"/>
                <a:ea typeface="標楷體"/>
              </a:rPr>
              <a:t>。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811080" indent="-811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1380960"/>
                <a:tab algn="l" pos="2295360"/>
                <a:tab algn="l" pos="3209760"/>
                <a:tab algn="l" pos="4124160"/>
                <a:tab algn="l" pos="5038560"/>
                <a:tab algn="l" pos="5952960"/>
                <a:tab algn="l" pos="6867360"/>
                <a:tab algn="l" pos="7781760"/>
                <a:tab algn="l" pos="8696160"/>
                <a:tab algn="l" pos="9610560"/>
                <a:tab algn="l" pos="10524960"/>
                <a:tab algn="l" pos="1078236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Tahoma"/>
                <a:ea typeface="標楷體"/>
              </a:rPr>
              <a:t>土地上房屋為土地所有權人或其配偶、直系親屬所有。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2343600" y="838080"/>
            <a:ext cx="286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  <a:ea typeface="標楷體"/>
              </a:rPr>
              <a:t>地價稅法令及實務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52280" y="1905120"/>
            <a:ext cx="899172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11080" indent="-811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811080"/>
                <a:tab algn="l" pos="1725480"/>
                <a:tab algn="l" pos="2639880"/>
                <a:tab algn="l" pos="3554280"/>
                <a:tab algn="l" pos="4468680"/>
                <a:tab algn="l" pos="5383080"/>
                <a:tab algn="l" pos="6297480"/>
                <a:tab algn="l" pos="7211880"/>
                <a:tab algn="l" pos="8126280"/>
                <a:tab algn="l" pos="9040680"/>
                <a:tab algn="l" pos="9955080"/>
                <a:tab algn="l" pos="1086948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標楷體"/>
              </a:rPr>
              <a:t>情況一：夫擁有两筆土地，一處由夫設籍，另一處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1080" indent="-811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811080"/>
                <a:tab algn="l" pos="1725480"/>
                <a:tab algn="l" pos="2639880"/>
                <a:tab algn="l" pos="3554280"/>
                <a:tab algn="l" pos="4468680"/>
                <a:tab algn="l" pos="5383080"/>
                <a:tab algn="l" pos="6297480"/>
                <a:tab algn="l" pos="7211880"/>
                <a:tab algn="l" pos="8126280"/>
                <a:tab algn="l" pos="9040680"/>
                <a:tab algn="l" pos="9955080"/>
                <a:tab algn="l" pos="1086948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標楷體"/>
              </a:rPr>
              <a:t>            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標楷體"/>
              </a:rPr>
              <a:t>由妻設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1080" indent="-811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811080"/>
                <a:tab algn="l" pos="1725480"/>
                <a:tab algn="l" pos="2639880"/>
                <a:tab algn="l" pos="3554280"/>
                <a:tab algn="l" pos="4468680"/>
                <a:tab algn="l" pos="5383080"/>
                <a:tab algn="l" pos="6297480"/>
                <a:tab algn="l" pos="7211880"/>
                <a:tab algn="l" pos="8126280"/>
                <a:tab algn="l" pos="9040680"/>
                <a:tab algn="l" pos="9955080"/>
                <a:tab algn="l" pos="1086948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標楷體"/>
              </a:rPr>
              <a:t>情況二：夫擁有两筆土地，一處由夫設籍，另一處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1080" indent="-811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811080"/>
                <a:tab algn="l" pos="1725480"/>
                <a:tab algn="l" pos="2639880"/>
                <a:tab algn="l" pos="3554280"/>
                <a:tab algn="l" pos="4468680"/>
                <a:tab algn="l" pos="5383080"/>
                <a:tab algn="l" pos="6297480"/>
                <a:tab algn="l" pos="7211880"/>
                <a:tab algn="l" pos="8126280"/>
                <a:tab algn="l" pos="9040680"/>
                <a:tab algn="l" pos="9955080"/>
                <a:tab algn="l" pos="1086948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標楷體"/>
              </a:rPr>
              <a:t>            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標楷體"/>
              </a:rPr>
              <a:t>由妻及已成年子女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標楷體"/>
              </a:rPr>
              <a:t>(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標楷體"/>
              </a:rPr>
              <a:t>或直系親屬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標楷體"/>
              </a:rPr>
              <a:t>)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標楷體"/>
              </a:rPr>
              <a:t>設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1080" indent="-811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811080"/>
                <a:tab algn="l" pos="1725480"/>
                <a:tab algn="l" pos="2639880"/>
                <a:tab algn="l" pos="3554280"/>
                <a:tab algn="l" pos="4468680"/>
                <a:tab algn="l" pos="5383080"/>
                <a:tab algn="l" pos="6297480"/>
                <a:tab algn="l" pos="7211880"/>
                <a:tab algn="l" pos="8126280"/>
                <a:tab algn="l" pos="9040680"/>
                <a:tab algn="l" pos="9955080"/>
                <a:tab algn="l" pos="1086948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標楷體"/>
              </a:rPr>
              <a:t>情況三：夫、妻各自擁有一筆土地，各自在自己所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1080" indent="-811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811080"/>
                <a:tab algn="l" pos="1725480"/>
                <a:tab algn="l" pos="2639880"/>
                <a:tab algn="l" pos="3554280"/>
                <a:tab algn="l" pos="4468680"/>
                <a:tab algn="l" pos="5383080"/>
                <a:tab algn="l" pos="6297480"/>
                <a:tab algn="l" pos="7211880"/>
                <a:tab algn="l" pos="8126280"/>
                <a:tab algn="l" pos="9040680"/>
                <a:tab algn="l" pos="9955080"/>
                <a:tab algn="l" pos="1086948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標楷體"/>
              </a:rPr>
              <a:t>            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標楷體"/>
              </a:rPr>
              <a:t>有土地上設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1080" indent="-811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811080"/>
                <a:tab algn="l" pos="1725480"/>
                <a:tab algn="l" pos="2639880"/>
                <a:tab algn="l" pos="3554280"/>
                <a:tab algn="l" pos="4468680"/>
                <a:tab algn="l" pos="5383080"/>
                <a:tab algn="l" pos="6297480"/>
                <a:tab algn="l" pos="7211880"/>
                <a:tab algn="l" pos="8126280"/>
                <a:tab algn="l" pos="9040680"/>
                <a:tab algn="l" pos="9955080"/>
                <a:tab algn="l" pos="1086948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標楷體"/>
              </a:rPr>
              <a:t>情況四：夫、妻各自擁有一筆土地，各自在自己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1080" indent="-811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811080"/>
                <a:tab algn="l" pos="1725480"/>
                <a:tab algn="l" pos="2639880"/>
                <a:tab algn="l" pos="3554280"/>
                <a:tab algn="l" pos="4468680"/>
                <a:tab algn="l" pos="5383080"/>
                <a:tab algn="l" pos="6297480"/>
                <a:tab algn="l" pos="7211880"/>
                <a:tab algn="l" pos="8126280"/>
                <a:tab algn="l" pos="9040680"/>
                <a:tab algn="l" pos="9955080"/>
                <a:tab algn="l" pos="1086948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標楷體"/>
              </a:rPr>
              <a:t>            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標楷體"/>
              </a:rPr>
              <a:t>有土地上設籍，並有已成年子女設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1080" indent="-811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811080"/>
                <a:tab algn="l" pos="1725480"/>
                <a:tab algn="l" pos="2639880"/>
                <a:tab algn="l" pos="3554280"/>
                <a:tab algn="l" pos="4468680"/>
                <a:tab algn="l" pos="5383080"/>
                <a:tab algn="l" pos="6297480"/>
                <a:tab algn="l" pos="7211880"/>
                <a:tab algn="l" pos="8126280"/>
                <a:tab algn="l" pos="9040680"/>
                <a:tab algn="l" pos="9955080"/>
                <a:tab algn="l" pos="1086948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標楷體"/>
              </a:rPr>
              <a:t>情況五：夫有一筆土地，由夫、妻两人設籍，而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1080" indent="-811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811080"/>
                <a:tab algn="l" pos="1725480"/>
                <a:tab algn="l" pos="2639880"/>
                <a:tab algn="l" pos="3554280"/>
                <a:tab algn="l" pos="4468680"/>
                <a:tab algn="l" pos="5383080"/>
                <a:tab algn="l" pos="6297480"/>
                <a:tab algn="l" pos="7211880"/>
                <a:tab algn="l" pos="8126280"/>
                <a:tab algn="l" pos="9040680"/>
                <a:tab algn="l" pos="9955080"/>
                <a:tab algn="l" pos="1086948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標楷體"/>
              </a:rPr>
              <a:t>            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標楷體"/>
              </a:rPr>
              <a:t>另有一筆土地由妻之直系親屬設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1080" indent="-811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811080"/>
                <a:tab algn="l" pos="1725480"/>
                <a:tab algn="l" pos="2639880"/>
                <a:tab algn="l" pos="3554280"/>
                <a:tab algn="l" pos="4468680"/>
                <a:tab algn="l" pos="5383080"/>
                <a:tab algn="l" pos="6297480"/>
                <a:tab algn="l" pos="7211880"/>
                <a:tab algn="l" pos="8126280"/>
                <a:tab algn="l" pos="9040680"/>
                <a:tab algn="l" pos="9955080"/>
                <a:tab algn="l" pos="108694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1080" indent="-811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811080"/>
                <a:tab algn="l" pos="1725480"/>
                <a:tab algn="l" pos="2639880"/>
                <a:tab algn="l" pos="3554280"/>
                <a:tab algn="l" pos="4468680"/>
                <a:tab algn="l" pos="5383080"/>
                <a:tab algn="l" pos="6297480"/>
                <a:tab algn="l" pos="7211880"/>
                <a:tab algn="l" pos="8126280"/>
                <a:tab algn="l" pos="9040680"/>
                <a:tab algn="l" pos="9955080"/>
                <a:tab algn="l" pos="108694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2190960" y="914400"/>
            <a:ext cx="286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  <a:ea typeface="標楷體"/>
              </a:rPr>
              <a:t>地價稅法令及實務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219320" y="2057400"/>
            <a:ext cx="6400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1905120"/>
            <a:ext cx="91440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11080" indent="-811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811080"/>
                <a:tab algn="l" pos="1725480"/>
                <a:tab algn="l" pos="2639880"/>
                <a:tab algn="l" pos="3554280"/>
                <a:tab algn="l" pos="4468680"/>
                <a:tab algn="l" pos="5383080"/>
                <a:tab algn="l" pos="6297480"/>
                <a:tab algn="l" pos="7211880"/>
                <a:tab algn="l" pos="8126280"/>
                <a:tab algn="l" pos="9040680"/>
                <a:tab algn="l" pos="9955080"/>
                <a:tab algn="l" pos="1086948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ahoma"/>
                <a:ea typeface="標楷體"/>
              </a:rPr>
              <a:t>申請自用住宅優惠稅率應附資料</a:t>
            </a:r>
            <a:r>
              <a:rPr b="1" lang="en-US" sz="4000" spc="-1" strike="noStrike">
                <a:solidFill>
                  <a:srgbClr val="3333cc"/>
                </a:solidFill>
                <a:latin typeface="Tahoma"/>
                <a:ea typeface="標楷體"/>
              </a:rPr>
              <a:t>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811080" indent="-811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811080"/>
                <a:tab algn="l" pos="1725480"/>
                <a:tab algn="l" pos="2639880"/>
                <a:tab algn="l" pos="3554280"/>
                <a:tab algn="l" pos="4468680"/>
                <a:tab algn="l" pos="5383080"/>
                <a:tab algn="l" pos="6297480"/>
                <a:tab algn="l" pos="7211880"/>
                <a:tab algn="l" pos="8126280"/>
                <a:tab algn="l" pos="9040680"/>
                <a:tab algn="l" pos="9955080"/>
                <a:tab algn="l" pos="1086948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  <a:ea typeface="標楷體"/>
              </a:rPr>
              <a:t>戶籍證明文件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標楷體"/>
              </a:rPr>
              <a:t>：戶口名簿或戶籍謄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1080" indent="-811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811080"/>
                <a:tab algn="l" pos="1725480"/>
                <a:tab algn="l" pos="2639880"/>
                <a:tab algn="l" pos="3554280"/>
                <a:tab algn="l" pos="4468680"/>
                <a:tab algn="l" pos="5383080"/>
                <a:tab algn="l" pos="6297480"/>
                <a:tab algn="l" pos="7211880"/>
                <a:tab algn="l" pos="8126280"/>
                <a:tab algn="l" pos="9040680"/>
                <a:tab algn="l" pos="9955080"/>
                <a:tab algn="l" pos="1086948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  <a:ea typeface="標楷體"/>
              </a:rPr>
              <a:t>建築改良物證明文件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標楷體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1080" indent="-811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811080"/>
                <a:tab algn="l" pos="1725480"/>
                <a:tab algn="l" pos="2639880"/>
                <a:tab algn="l" pos="3554280"/>
                <a:tab algn="l" pos="4468680"/>
                <a:tab algn="l" pos="5383080"/>
                <a:tab algn="l" pos="6297480"/>
                <a:tab algn="l" pos="7211880"/>
                <a:tab algn="l" pos="8126280"/>
                <a:tab algn="l" pos="9040680"/>
                <a:tab algn="l" pos="9955080"/>
                <a:tab algn="l" pos="1086948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標楷體"/>
              </a:rPr>
              <a:t>        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標楷體"/>
              </a:rPr>
              <a:t>(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標楷體"/>
              </a:rPr>
              <a:t>一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標楷體"/>
              </a:rPr>
              <a:t>)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標楷體"/>
              </a:rPr>
              <a:t>建物所有權狀影本或建築改良物登記簿謄本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1080" indent="-811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811080"/>
                <a:tab algn="l" pos="1725480"/>
                <a:tab algn="l" pos="2639880"/>
                <a:tab algn="l" pos="3554280"/>
                <a:tab algn="l" pos="4468680"/>
                <a:tab algn="l" pos="5383080"/>
                <a:tab algn="l" pos="6297480"/>
                <a:tab algn="l" pos="7211880"/>
                <a:tab algn="l" pos="8126280"/>
                <a:tab algn="l" pos="9040680"/>
                <a:tab algn="l" pos="9955080"/>
                <a:tab algn="l" pos="1086948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標楷體"/>
              </a:rPr>
              <a:t>        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標楷體"/>
              </a:rPr>
              <a:t>(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標楷體"/>
              </a:rPr>
              <a:t>二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標楷體"/>
              </a:rPr>
              <a:t>)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標楷體"/>
              </a:rPr>
              <a:t>未辦建物所有權第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標楷體"/>
              </a:rPr>
              <a:t>1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標楷體"/>
              </a:rPr>
              <a:t>次登記：建物測量成果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1080" indent="-811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811080"/>
                <a:tab algn="l" pos="1725480"/>
                <a:tab algn="l" pos="2639880"/>
                <a:tab algn="l" pos="3554280"/>
                <a:tab algn="l" pos="4468680"/>
                <a:tab algn="l" pos="5383080"/>
                <a:tab algn="l" pos="6297480"/>
                <a:tab algn="l" pos="7211880"/>
                <a:tab algn="l" pos="8126280"/>
                <a:tab algn="l" pos="9040680"/>
                <a:tab algn="l" pos="9955080"/>
                <a:tab algn="l" pos="1086948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標楷體"/>
              </a:rPr>
              <a:t>          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標楷體"/>
              </a:rPr>
              <a:t>圖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1080" indent="-811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811080"/>
                <a:tab algn="l" pos="1725480"/>
                <a:tab algn="l" pos="2639880"/>
                <a:tab algn="l" pos="3554280"/>
                <a:tab algn="l" pos="4468680"/>
                <a:tab algn="l" pos="5383080"/>
                <a:tab algn="l" pos="6297480"/>
                <a:tab algn="l" pos="7211880"/>
                <a:tab algn="l" pos="8126280"/>
                <a:tab algn="l" pos="9040680"/>
                <a:tab algn="l" pos="9955080"/>
                <a:tab algn="l" pos="1086948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標楷體"/>
              </a:rPr>
              <a:t>        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標楷體"/>
              </a:rPr>
              <a:t>(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標楷體"/>
              </a:rPr>
              <a:t>三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標楷體"/>
              </a:rPr>
              <a:t>)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標楷體"/>
              </a:rPr>
              <a:t>建築物建造執照或使用執照影本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1080" indent="-811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811080"/>
                <a:tab algn="l" pos="1725480"/>
                <a:tab algn="l" pos="2639880"/>
                <a:tab algn="l" pos="3554280"/>
                <a:tab algn="l" pos="4468680"/>
                <a:tab algn="l" pos="5383080"/>
                <a:tab algn="l" pos="6297480"/>
                <a:tab algn="l" pos="7211880"/>
                <a:tab algn="l" pos="8126280"/>
                <a:tab algn="l" pos="9040680"/>
                <a:tab algn="l" pos="9955080"/>
                <a:tab algn="l" pos="1086948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標楷體"/>
              </a:rPr>
              <a:t>        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標楷體"/>
              </a:rPr>
              <a:t>(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標楷體"/>
              </a:rPr>
              <a:t>四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標楷體"/>
              </a:rPr>
              <a:t>)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標楷體"/>
              </a:rPr>
              <a:t>房屋基地坐落申明書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1080" indent="-811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811080"/>
                <a:tab algn="l" pos="1725480"/>
                <a:tab algn="l" pos="2639880"/>
                <a:tab algn="l" pos="3554280"/>
                <a:tab algn="l" pos="4468680"/>
                <a:tab algn="l" pos="5383080"/>
                <a:tab algn="l" pos="6297480"/>
                <a:tab algn="l" pos="7211880"/>
                <a:tab algn="l" pos="8126280"/>
                <a:tab algn="l" pos="9040680"/>
                <a:tab algn="l" pos="9955080"/>
                <a:tab algn="l" pos="1086948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  <a:ea typeface="標楷體"/>
              </a:rPr>
              <a:t>其他有關證明文件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標楷體"/>
              </a:rPr>
              <a:t>：土地所有權人或設籍人無租賃關係申明書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1080" indent="-811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811080"/>
                <a:tab algn="l" pos="1725480"/>
                <a:tab algn="l" pos="2639880"/>
                <a:tab algn="l" pos="3554280"/>
                <a:tab algn="l" pos="4468680"/>
                <a:tab algn="l" pos="5383080"/>
                <a:tab algn="l" pos="6297480"/>
                <a:tab algn="l" pos="7211880"/>
                <a:tab algn="l" pos="8126280"/>
                <a:tab algn="l" pos="9040680"/>
                <a:tab algn="l" pos="9955080"/>
                <a:tab algn="l" pos="108694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1080" indent="-811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811080"/>
                <a:tab algn="l" pos="1725480"/>
                <a:tab algn="l" pos="2639880"/>
                <a:tab algn="l" pos="3554280"/>
                <a:tab algn="l" pos="4468680"/>
                <a:tab algn="l" pos="5383080"/>
                <a:tab algn="l" pos="6297480"/>
                <a:tab algn="l" pos="7211880"/>
                <a:tab algn="l" pos="8126280"/>
                <a:tab algn="l" pos="9040680"/>
                <a:tab algn="l" pos="9955080"/>
                <a:tab algn="l" pos="108694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457200" y="1828800"/>
            <a:ext cx="830592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11080" indent="-811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811080"/>
                <a:tab algn="l" pos="1725480"/>
                <a:tab algn="l" pos="2639880"/>
                <a:tab algn="l" pos="3554280"/>
                <a:tab algn="l" pos="4468680"/>
                <a:tab algn="l" pos="5383080"/>
                <a:tab algn="l" pos="6297480"/>
                <a:tab algn="l" pos="7211880"/>
                <a:tab algn="l" pos="8126280"/>
                <a:tab algn="l" pos="9040680"/>
                <a:tab algn="l" pos="9955080"/>
                <a:tab algn="l" pos="1086948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ahoma"/>
                <a:ea typeface="標楷體"/>
              </a:rPr>
              <a:t>自用住宅優惠稅率相關規定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811080" indent="-811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811080"/>
                <a:tab algn="l" pos="1725480"/>
                <a:tab algn="l" pos="2639880"/>
                <a:tab algn="l" pos="3554280"/>
                <a:tab algn="l" pos="4468680"/>
                <a:tab algn="l" pos="5383080"/>
                <a:tab algn="l" pos="6297480"/>
                <a:tab algn="l" pos="7211880"/>
                <a:tab algn="l" pos="8126280"/>
                <a:tab algn="l" pos="9040680"/>
                <a:tab algn="l" pos="9955080"/>
                <a:tab algn="l" pos="1086948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標楷體"/>
              </a:rPr>
              <a:t>如所有權移轉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標楷體"/>
              </a:rPr>
              <a:t>(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標楷體"/>
              </a:rPr>
              <a:t>買賣、繼承、贈與共有物分割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標楷體"/>
              </a:rPr>
              <a:t>)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標楷體"/>
              </a:rPr>
              <a:t>應重新申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1080" indent="-811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811080"/>
                <a:tab algn="l" pos="1725480"/>
                <a:tab algn="l" pos="2639880"/>
                <a:tab algn="l" pos="3554280"/>
                <a:tab algn="l" pos="4468680"/>
                <a:tab algn="l" pos="5383080"/>
                <a:tab algn="l" pos="6297480"/>
                <a:tab algn="l" pos="7211880"/>
                <a:tab algn="l" pos="8126280"/>
                <a:tab algn="l" pos="9040680"/>
                <a:tab algn="l" pos="9955080"/>
                <a:tab algn="l" pos="1086948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標楷體"/>
              </a:rPr>
              <a:t>信託土地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標楷體"/>
              </a:rPr>
              <a:t>(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標楷體"/>
              </a:rPr>
              <a:t>自益信託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標楷體"/>
              </a:rPr>
              <a:t>)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標楷體"/>
              </a:rPr>
              <a:t>如符合自用住宅用地規定，受託人持有期間准按自用住宅課徵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1080" indent="-811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811080"/>
                <a:tab algn="l" pos="1725480"/>
                <a:tab algn="l" pos="2639880"/>
                <a:tab algn="l" pos="3554280"/>
                <a:tab algn="l" pos="4468680"/>
                <a:tab algn="l" pos="5383080"/>
                <a:tab algn="l" pos="6297480"/>
                <a:tab algn="l" pos="7211880"/>
                <a:tab algn="l" pos="8126280"/>
                <a:tab algn="l" pos="9040680"/>
                <a:tab algn="l" pos="9955080"/>
                <a:tab algn="l" pos="1086948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標楷體"/>
              </a:rPr>
              <a:t>戶籍因故遷出實際上還是自己住，不符自用住宅要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1080" indent="-811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811080"/>
                <a:tab algn="l" pos="1725480"/>
                <a:tab algn="l" pos="2639880"/>
                <a:tab algn="l" pos="3554280"/>
                <a:tab algn="l" pos="4468680"/>
                <a:tab algn="l" pos="5383080"/>
                <a:tab algn="l" pos="6297480"/>
                <a:tab algn="l" pos="7211880"/>
                <a:tab algn="l" pos="8126280"/>
                <a:tab algn="l" pos="9040680"/>
                <a:tab algn="l" pos="9955080"/>
                <a:tab algn="l" pos="1086948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標楷體"/>
              </a:rPr>
              <a:t>夫妻持分共有土地，均符合自用住宅用地，仍應就自有部分分別申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1080" indent="-811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811080"/>
                <a:tab algn="l" pos="1725480"/>
                <a:tab algn="l" pos="2639880"/>
                <a:tab algn="l" pos="3554280"/>
                <a:tab algn="l" pos="4468680"/>
                <a:tab algn="l" pos="5383080"/>
                <a:tab algn="l" pos="6297480"/>
                <a:tab algn="l" pos="7211880"/>
                <a:tab algn="l" pos="8126280"/>
                <a:tab algn="l" pos="9040680"/>
                <a:tab algn="l" pos="9955080"/>
                <a:tab algn="l" pos="1086948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標楷體"/>
              </a:rPr>
              <a:t>原符合自用住宅因拆除改建，新建房屋尚在施工沒領到使用執照前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標楷體"/>
              </a:rPr>
              <a:t>----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標楷體"/>
              </a:rPr>
              <a:t>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1080" indent="-811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811080"/>
                <a:tab algn="l" pos="1725480"/>
                <a:tab algn="l" pos="2639880"/>
                <a:tab algn="l" pos="3554280"/>
                <a:tab algn="l" pos="4468680"/>
                <a:tab algn="l" pos="5383080"/>
                <a:tab algn="l" pos="6297480"/>
                <a:tab algn="l" pos="7211880"/>
                <a:tab algn="l" pos="8126280"/>
                <a:tab algn="l" pos="9040680"/>
                <a:tab algn="l" pos="9955080"/>
                <a:tab algn="l" pos="108694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267280" y="990720"/>
            <a:ext cx="286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  <a:ea typeface="標楷體"/>
              </a:rPr>
              <a:t>地價稅法令及實務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828800"/>
            <a:ext cx="9144000" cy="57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標楷體"/>
              </a:rPr>
              <a:t>張三在某縣有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標楷體"/>
              </a:rPr>
              <a:t>2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標楷體"/>
              </a:rPr>
              <a:t>筆土地，甲地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標楷體"/>
              </a:rPr>
              <a:t>70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標楷體"/>
              </a:rPr>
              <a:t>平方公尺，毎平方公尺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標楷體"/>
              </a:rPr>
              <a:t>1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標楷體"/>
              </a:rPr>
              <a:t>萬元，乙地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標楷體"/>
              </a:rPr>
              <a:t>60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標楷體"/>
              </a:rPr>
              <a:t>平方公尺，毎平方公尺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標楷體"/>
              </a:rPr>
              <a:t>8,800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標楷體"/>
              </a:rPr>
              <a:t>元，假設該市累進起點地價為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標楷體"/>
              </a:rPr>
              <a:t>170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標楷體"/>
              </a:rPr>
              <a:t>萬元，又乙地按自用住宅用地稅率計課，請問張三應納地價稅若干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Tahoma"/>
                <a:ea typeface="標楷體"/>
              </a:rPr>
              <a:t>(1)</a:t>
            </a:r>
            <a:r>
              <a:rPr b="1" lang="en-US" sz="2600" spc="-1" strike="noStrike">
                <a:solidFill>
                  <a:srgbClr val="3333cc"/>
                </a:solidFill>
                <a:latin typeface="Tahoma"/>
                <a:ea typeface="標楷體"/>
              </a:rPr>
              <a:t>甲地申報地價</a:t>
            </a:r>
            <a:r>
              <a:rPr b="1" lang="en-US" sz="2600" spc="-1" strike="noStrike">
                <a:solidFill>
                  <a:srgbClr val="3333cc"/>
                </a:solidFill>
                <a:latin typeface="Tahoma"/>
                <a:ea typeface="標楷體"/>
              </a:rPr>
              <a:t>*</a:t>
            </a:r>
            <a:r>
              <a:rPr b="1" lang="en-US" sz="2600" spc="-1" strike="noStrike">
                <a:solidFill>
                  <a:srgbClr val="3333cc"/>
                </a:solidFill>
                <a:latin typeface="Tahoma"/>
                <a:ea typeface="標楷體"/>
              </a:rPr>
              <a:t>面積</a:t>
            </a:r>
            <a:r>
              <a:rPr b="1" lang="en-US" sz="2600" spc="-1" strike="noStrike">
                <a:solidFill>
                  <a:srgbClr val="3333cc"/>
                </a:solidFill>
                <a:latin typeface="Tahoma"/>
                <a:ea typeface="標楷體"/>
              </a:rPr>
              <a:t>= 1</a:t>
            </a:r>
            <a:r>
              <a:rPr b="1" lang="en-US" sz="2600" spc="-1" strike="noStrike">
                <a:solidFill>
                  <a:srgbClr val="3333cc"/>
                </a:solidFill>
                <a:latin typeface="Tahoma"/>
                <a:ea typeface="標楷體"/>
              </a:rPr>
              <a:t>萬元</a:t>
            </a:r>
            <a:r>
              <a:rPr b="1" lang="en-US" sz="2600" spc="-1" strike="noStrike">
                <a:solidFill>
                  <a:srgbClr val="3333cc"/>
                </a:solidFill>
                <a:latin typeface="Tahoma"/>
                <a:ea typeface="標楷體"/>
              </a:rPr>
              <a:t>*70=70</a:t>
            </a:r>
            <a:r>
              <a:rPr b="1" lang="en-US" sz="2600" spc="-1" strike="noStrike">
                <a:solidFill>
                  <a:srgbClr val="3333cc"/>
                </a:solidFill>
                <a:latin typeface="Tahoma"/>
                <a:ea typeface="標楷體"/>
              </a:rPr>
              <a:t>萬元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Tahoma"/>
                <a:ea typeface="標楷體"/>
              </a:rPr>
              <a:t> </a:t>
            </a:r>
            <a:r>
              <a:rPr b="1" lang="en-US" sz="2600" spc="-1" strike="noStrike">
                <a:solidFill>
                  <a:srgbClr val="3333cc"/>
                </a:solidFill>
                <a:latin typeface="Tahoma"/>
                <a:ea typeface="標楷體"/>
              </a:rPr>
              <a:t>地價總額</a:t>
            </a:r>
            <a:r>
              <a:rPr b="1" lang="en-US" sz="2600" spc="-1" strike="noStrike">
                <a:solidFill>
                  <a:srgbClr val="3333cc"/>
                </a:solidFill>
                <a:latin typeface="Tahoma"/>
                <a:ea typeface="標楷體"/>
              </a:rPr>
              <a:t>* </a:t>
            </a:r>
            <a:r>
              <a:rPr b="1" lang="en-US" sz="2600" spc="-1" strike="noStrike">
                <a:solidFill>
                  <a:srgbClr val="3333cc"/>
                </a:solidFill>
                <a:latin typeface="Tahoma"/>
                <a:ea typeface="標楷體"/>
              </a:rPr>
              <a:t>稅率</a:t>
            </a:r>
            <a:r>
              <a:rPr b="1" lang="en-US" sz="2600" spc="-1" strike="noStrike">
                <a:solidFill>
                  <a:srgbClr val="3333cc"/>
                </a:solidFill>
                <a:latin typeface="Tahoma"/>
                <a:ea typeface="標楷體"/>
              </a:rPr>
              <a:t>=70</a:t>
            </a:r>
            <a:r>
              <a:rPr b="1" lang="en-US" sz="2600" spc="-1" strike="noStrike">
                <a:solidFill>
                  <a:srgbClr val="3333cc"/>
                </a:solidFill>
                <a:latin typeface="Tahoma"/>
                <a:ea typeface="標楷體"/>
              </a:rPr>
              <a:t>萬元</a:t>
            </a:r>
            <a:r>
              <a:rPr b="1" lang="en-US" sz="2600" spc="-1" strike="noStrike">
                <a:solidFill>
                  <a:srgbClr val="3333cc"/>
                </a:solidFill>
                <a:latin typeface="Tahoma"/>
                <a:ea typeface="標楷體"/>
              </a:rPr>
              <a:t>*1%(</a:t>
            </a:r>
            <a:r>
              <a:rPr b="1" lang="en-US" sz="2600" spc="-1" strike="noStrike">
                <a:solidFill>
                  <a:srgbClr val="3333cc"/>
                </a:solidFill>
                <a:latin typeface="Tahoma"/>
                <a:ea typeface="標楷體"/>
              </a:rPr>
              <a:t>千分之十</a:t>
            </a:r>
            <a:r>
              <a:rPr b="1" lang="en-US" sz="2600" spc="-1" strike="noStrike">
                <a:solidFill>
                  <a:srgbClr val="3333cc"/>
                </a:solidFill>
                <a:latin typeface="Tahoma"/>
                <a:ea typeface="標楷體"/>
              </a:rPr>
              <a:t>)=7000</a:t>
            </a:r>
            <a:r>
              <a:rPr b="1" lang="en-US" sz="2600" spc="-1" strike="noStrike">
                <a:solidFill>
                  <a:srgbClr val="3333cc"/>
                </a:solidFill>
                <a:latin typeface="Tahoma"/>
                <a:ea typeface="標楷體"/>
              </a:rPr>
              <a:t>元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Tahoma"/>
                <a:ea typeface="標楷體"/>
              </a:rPr>
              <a:t>(2)</a:t>
            </a:r>
            <a:r>
              <a:rPr b="1" lang="en-US" sz="2600" spc="-1" strike="noStrike">
                <a:solidFill>
                  <a:srgbClr val="3333cc"/>
                </a:solidFill>
                <a:latin typeface="Tahoma"/>
                <a:ea typeface="標楷體"/>
              </a:rPr>
              <a:t>乙地申報地價</a:t>
            </a:r>
            <a:r>
              <a:rPr b="1" lang="en-US" sz="2600" spc="-1" strike="noStrike">
                <a:solidFill>
                  <a:srgbClr val="3333cc"/>
                </a:solidFill>
                <a:latin typeface="Tahoma"/>
                <a:ea typeface="標楷體"/>
              </a:rPr>
              <a:t>*</a:t>
            </a:r>
            <a:r>
              <a:rPr b="1" lang="en-US" sz="2600" spc="-1" strike="noStrike">
                <a:solidFill>
                  <a:srgbClr val="3333cc"/>
                </a:solidFill>
                <a:latin typeface="Tahoma"/>
                <a:ea typeface="標楷體"/>
              </a:rPr>
              <a:t>面積</a:t>
            </a:r>
            <a:r>
              <a:rPr b="1" lang="en-US" sz="2600" spc="-1" strike="noStrike">
                <a:solidFill>
                  <a:srgbClr val="3333cc"/>
                </a:solidFill>
                <a:latin typeface="Tahoma"/>
                <a:ea typeface="標楷體"/>
              </a:rPr>
              <a:t>= 8,800*60=52</a:t>
            </a:r>
            <a:r>
              <a:rPr b="1" lang="en-US" sz="2600" spc="-1" strike="noStrike">
                <a:solidFill>
                  <a:srgbClr val="3333cc"/>
                </a:solidFill>
                <a:latin typeface="Tahoma"/>
                <a:ea typeface="標楷體"/>
              </a:rPr>
              <a:t>萬</a:t>
            </a:r>
            <a:r>
              <a:rPr b="1" lang="en-US" sz="2600" spc="-1" strike="noStrike">
                <a:solidFill>
                  <a:srgbClr val="3333cc"/>
                </a:solidFill>
                <a:latin typeface="Tahoma"/>
                <a:ea typeface="標楷體"/>
              </a:rPr>
              <a:t>8</a:t>
            </a:r>
            <a:r>
              <a:rPr b="1" lang="en-US" sz="2600" spc="-1" strike="noStrike">
                <a:solidFill>
                  <a:srgbClr val="3333cc"/>
                </a:solidFill>
                <a:latin typeface="Tahoma"/>
                <a:ea typeface="標楷體"/>
              </a:rPr>
              <a:t>千元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Tahoma"/>
                <a:ea typeface="標楷體"/>
              </a:rPr>
              <a:t> </a:t>
            </a:r>
            <a:r>
              <a:rPr b="1" lang="en-US" sz="2600" spc="-1" strike="noStrike">
                <a:solidFill>
                  <a:srgbClr val="3333cc"/>
                </a:solidFill>
                <a:latin typeface="Tahoma"/>
                <a:ea typeface="標楷體"/>
              </a:rPr>
              <a:t>地價總額</a:t>
            </a:r>
            <a:r>
              <a:rPr b="1" lang="en-US" sz="2600" spc="-1" strike="noStrike">
                <a:solidFill>
                  <a:srgbClr val="3333cc"/>
                </a:solidFill>
                <a:latin typeface="Tahoma"/>
                <a:ea typeface="標楷體"/>
              </a:rPr>
              <a:t>* </a:t>
            </a:r>
            <a:r>
              <a:rPr b="1" lang="en-US" sz="2600" spc="-1" strike="noStrike">
                <a:solidFill>
                  <a:srgbClr val="3333cc"/>
                </a:solidFill>
                <a:latin typeface="Tahoma"/>
                <a:ea typeface="標楷體"/>
              </a:rPr>
              <a:t>稅率</a:t>
            </a:r>
            <a:r>
              <a:rPr b="1" lang="en-US" sz="2600" spc="-1" strike="noStrike">
                <a:solidFill>
                  <a:srgbClr val="3333cc"/>
                </a:solidFill>
                <a:latin typeface="Tahoma"/>
                <a:ea typeface="標楷體"/>
              </a:rPr>
              <a:t>= 52</a:t>
            </a:r>
            <a:r>
              <a:rPr b="1" lang="en-US" sz="2600" spc="-1" strike="noStrike">
                <a:solidFill>
                  <a:srgbClr val="3333cc"/>
                </a:solidFill>
                <a:latin typeface="Tahoma"/>
                <a:ea typeface="標楷體"/>
              </a:rPr>
              <a:t>萬</a:t>
            </a:r>
            <a:r>
              <a:rPr b="1" lang="en-US" sz="2600" spc="-1" strike="noStrike">
                <a:solidFill>
                  <a:srgbClr val="3333cc"/>
                </a:solidFill>
                <a:latin typeface="Tahoma"/>
                <a:ea typeface="標楷體"/>
              </a:rPr>
              <a:t>8</a:t>
            </a:r>
            <a:r>
              <a:rPr b="1" lang="en-US" sz="2600" spc="-1" strike="noStrike">
                <a:solidFill>
                  <a:srgbClr val="3333cc"/>
                </a:solidFill>
                <a:latin typeface="Tahoma"/>
                <a:ea typeface="標楷體"/>
              </a:rPr>
              <a:t>千元</a:t>
            </a:r>
            <a:r>
              <a:rPr b="1" lang="en-US" sz="2600" spc="-1" strike="noStrike">
                <a:solidFill>
                  <a:srgbClr val="3333cc"/>
                </a:solidFill>
                <a:latin typeface="Tahoma"/>
                <a:ea typeface="標楷體"/>
              </a:rPr>
              <a:t>*2%(</a:t>
            </a:r>
            <a:r>
              <a:rPr b="1" lang="en-US" sz="2600" spc="-1" strike="noStrike">
                <a:solidFill>
                  <a:srgbClr val="3333cc"/>
                </a:solidFill>
                <a:latin typeface="Tahoma"/>
                <a:ea typeface="標楷體"/>
              </a:rPr>
              <a:t>千分之二</a:t>
            </a:r>
            <a:r>
              <a:rPr b="1" lang="en-US" sz="2600" spc="-1" strike="noStrike">
                <a:solidFill>
                  <a:srgbClr val="3333cc"/>
                </a:solidFill>
                <a:latin typeface="Tahoma"/>
                <a:ea typeface="標楷體"/>
              </a:rPr>
              <a:t>)=1056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Tahoma"/>
                <a:ea typeface="標楷體"/>
              </a:rPr>
              <a:t>(3)</a:t>
            </a:r>
            <a:r>
              <a:rPr b="1" lang="en-US" sz="2600" spc="-1" strike="noStrike">
                <a:solidFill>
                  <a:srgbClr val="3333cc"/>
                </a:solidFill>
                <a:latin typeface="Tahoma"/>
                <a:ea typeface="標楷體"/>
              </a:rPr>
              <a:t>甲地稅額</a:t>
            </a:r>
            <a:r>
              <a:rPr b="1" lang="en-US" sz="2600" spc="-1" strike="noStrike">
                <a:solidFill>
                  <a:srgbClr val="3333cc"/>
                </a:solidFill>
                <a:latin typeface="Tahoma"/>
                <a:ea typeface="標楷體"/>
              </a:rPr>
              <a:t>+</a:t>
            </a:r>
            <a:r>
              <a:rPr b="1" lang="en-US" sz="2600" spc="-1" strike="noStrike">
                <a:solidFill>
                  <a:srgbClr val="3333cc"/>
                </a:solidFill>
                <a:latin typeface="Tahoma"/>
                <a:ea typeface="標楷體"/>
              </a:rPr>
              <a:t>乙地稅額</a:t>
            </a:r>
            <a:r>
              <a:rPr b="1" lang="en-US" sz="2600" spc="-1" strike="noStrike">
                <a:solidFill>
                  <a:srgbClr val="3333cc"/>
                </a:solidFill>
                <a:latin typeface="Tahoma"/>
                <a:ea typeface="標楷體"/>
              </a:rPr>
              <a:t>=7000+1056=8056</a:t>
            </a:r>
            <a:r>
              <a:rPr b="1" lang="en-US" sz="2600" spc="-1" strike="noStrike">
                <a:solidFill>
                  <a:srgbClr val="3333cc"/>
                </a:solidFill>
                <a:latin typeface="Tahoma"/>
                <a:ea typeface="標楷體"/>
              </a:rPr>
              <a:t>元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914400" y="5181480"/>
            <a:ext cx="7315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958400" y="1066680"/>
            <a:ext cx="68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ahoma"/>
                <a:ea typeface="標楷體"/>
              </a:rPr>
              <a:t>案例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0" y="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ahoma"/>
                <a:ea typeface="標楷體"/>
              </a:rPr>
              <a:t>案例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990720" y="152280"/>
            <a:ext cx="8153280" cy="113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標楷體"/>
                <a:ea typeface="標楷體"/>
              </a:rPr>
              <a:t>李四在某縣有</a:t>
            </a:r>
            <a:r>
              <a:rPr b="1" lang="en-US" sz="2800" spc="-1" strike="noStrike">
                <a:solidFill>
                  <a:srgbClr val="3333cc"/>
                </a:solidFill>
                <a:latin typeface="標楷體"/>
                <a:ea typeface="標楷體"/>
              </a:rPr>
              <a:t>2</a:t>
            </a:r>
            <a:r>
              <a:rPr b="1" lang="en-US" sz="2800" spc="-1" strike="noStrike">
                <a:solidFill>
                  <a:srgbClr val="3333cc"/>
                </a:solidFill>
                <a:latin typeface="標楷體"/>
                <a:ea typeface="標楷體"/>
              </a:rPr>
              <a:t>筆土地，甲地</a:t>
            </a:r>
            <a:r>
              <a:rPr b="1" lang="en-US" sz="2800" spc="-1" strike="noStrike">
                <a:solidFill>
                  <a:srgbClr val="3333cc"/>
                </a:solidFill>
                <a:latin typeface="標楷體"/>
                <a:ea typeface="標楷體"/>
              </a:rPr>
              <a:t>88</a:t>
            </a:r>
            <a:r>
              <a:rPr b="1" lang="en-US" sz="2800" spc="-1" strike="noStrike">
                <a:solidFill>
                  <a:srgbClr val="3333cc"/>
                </a:solidFill>
                <a:latin typeface="標楷體"/>
                <a:ea typeface="標楷體"/>
              </a:rPr>
              <a:t>平方公尺，申報地價毎平方公尺</a:t>
            </a:r>
            <a:r>
              <a:rPr b="1" lang="en-US" sz="2800" spc="-1" strike="noStrike">
                <a:solidFill>
                  <a:srgbClr val="3333cc"/>
                </a:solidFill>
                <a:latin typeface="標楷體"/>
                <a:ea typeface="標楷體"/>
              </a:rPr>
              <a:t>2</a:t>
            </a:r>
            <a:r>
              <a:rPr b="1" lang="en-US" sz="2800" spc="-1" strike="noStrike">
                <a:solidFill>
                  <a:srgbClr val="3333cc"/>
                </a:solidFill>
                <a:latin typeface="標楷體"/>
                <a:ea typeface="標楷體"/>
              </a:rPr>
              <a:t>萬</a:t>
            </a:r>
            <a:r>
              <a:rPr b="1" lang="en-US" sz="2800" spc="-1" strike="noStrike">
                <a:solidFill>
                  <a:srgbClr val="3333cc"/>
                </a:solidFill>
                <a:latin typeface="標楷體"/>
                <a:ea typeface="標楷體"/>
              </a:rPr>
              <a:t>8</a:t>
            </a:r>
            <a:r>
              <a:rPr b="1" lang="en-US" sz="2800" spc="-1" strike="noStrike">
                <a:solidFill>
                  <a:srgbClr val="3333cc"/>
                </a:solidFill>
                <a:latin typeface="標楷體"/>
                <a:ea typeface="標楷體"/>
              </a:rPr>
              <a:t>千元，乙地</a:t>
            </a:r>
            <a:r>
              <a:rPr b="1" lang="en-US" sz="2800" spc="-1" strike="noStrike">
                <a:solidFill>
                  <a:srgbClr val="3333cc"/>
                </a:solidFill>
                <a:latin typeface="標楷體"/>
                <a:ea typeface="標楷體"/>
              </a:rPr>
              <a:t>80</a:t>
            </a:r>
            <a:r>
              <a:rPr b="1" lang="en-US" sz="2800" spc="-1" strike="noStrike">
                <a:solidFill>
                  <a:srgbClr val="3333cc"/>
                </a:solidFill>
                <a:latin typeface="標楷體"/>
                <a:ea typeface="標楷體"/>
              </a:rPr>
              <a:t>平方公尺，申報地價毎平方公尺</a:t>
            </a:r>
            <a:r>
              <a:rPr b="1" lang="en-US" sz="2800" spc="-1" strike="noStrike">
                <a:solidFill>
                  <a:srgbClr val="3333cc"/>
                </a:solidFill>
                <a:latin typeface="標楷體"/>
                <a:ea typeface="標楷體"/>
              </a:rPr>
              <a:t>4</a:t>
            </a:r>
            <a:r>
              <a:rPr b="1" lang="en-US" sz="2800" spc="-1" strike="noStrike">
                <a:solidFill>
                  <a:srgbClr val="3333cc"/>
                </a:solidFill>
                <a:latin typeface="標楷體"/>
                <a:ea typeface="標楷體"/>
              </a:rPr>
              <a:t>萬</a:t>
            </a:r>
            <a:r>
              <a:rPr b="1" lang="en-US" sz="2800" spc="-1" strike="noStrike">
                <a:solidFill>
                  <a:srgbClr val="3333cc"/>
                </a:solidFill>
                <a:latin typeface="標楷體"/>
                <a:ea typeface="標楷體"/>
              </a:rPr>
              <a:t>2</a:t>
            </a:r>
            <a:r>
              <a:rPr b="1" lang="en-US" sz="2800" spc="-1" strike="noStrike">
                <a:solidFill>
                  <a:srgbClr val="3333cc"/>
                </a:solidFill>
                <a:latin typeface="標楷體"/>
                <a:ea typeface="標楷體"/>
              </a:rPr>
              <a:t>千元，請問李四應納地價稅若干</a:t>
            </a:r>
            <a:r>
              <a:rPr b="1" lang="en-US" sz="2800" spc="-1" strike="noStrike">
                <a:solidFill>
                  <a:srgbClr val="3333cc"/>
                </a:solidFill>
                <a:latin typeface="標楷體"/>
                <a:ea typeface="標楷體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標楷體"/>
                <a:ea typeface="標楷體"/>
              </a:rPr>
              <a:t>246</a:t>
            </a:r>
            <a:r>
              <a:rPr b="1" lang="en-US" sz="2600" spc="-1" strike="noStrike">
                <a:solidFill>
                  <a:srgbClr val="3333cc"/>
                </a:solidFill>
                <a:latin typeface="標楷體"/>
                <a:ea typeface="標楷體"/>
              </a:rPr>
              <a:t>萬</a:t>
            </a:r>
            <a:r>
              <a:rPr b="1" lang="en-US" sz="2600" spc="-1" strike="noStrike">
                <a:solidFill>
                  <a:srgbClr val="3333cc"/>
                </a:solidFill>
                <a:latin typeface="標楷體"/>
                <a:ea typeface="標楷體"/>
              </a:rPr>
              <a:t>4,000</a:t>
            </a:r>
            <a:r>
              <a:rPr b="1" lang="en-US" sz="2600" spc="-1" strike="noStrike">
                <a:solidFill>
                  <a:srgbClr val="3333cc"/>
                </a:solidFill>
                <a:latin typeface="標楷體"/>
                <a:ea typeface="標楷體"/>
              </a:rPr>
              <a:t>元</a:t>
            </a:r>
            <a:r>
              <a:rPr b="1" lang="en-US" sz="2600" spc="-1" strike="noStrike">
                <a:solidFill>
                  <a:srgbClr val="3333cc"/>
                </a:solidFill>
                <a:latin typeface="標楷體"/>
                <a:ea typeface="標楷體"/>
              </a:rPr>
              <a:t>+336</a:t>
            </a:r>
            <a:r>
              <a:rPr b="1" lang="en-US" sz="2600" spc="-1" strike="noStrike">
                <a:solidFill>
                  <a:srgbClr val="3333cc"/>
                </a:solidFill>
                <a:latin typeface="標楷體"/>
                <a:ea typeface="標楷體"/>
              </a:rPr>
              <a:t>萬元</a:t>
            </a:r>
            <a:r>
              <a:rPr b="1" lang="en-US" sz="2600" spc="-1" strike="noStrike">
                <a:solidFill>
                  <a:srgbClr val="3333cc"/>
                </a:solidFill>
                <a:latin typeface="標楷體"/>
                <a:ea typeface="標楷體"/>
              </a:rPr>
              <a:t>=582</a:t>
            </a:r>
            <a:r>
              <a:rPr b="1" lang="en-US" sz="2600" spc="-1" strike="noStrike">
                <a:solidFill>
                  <a:srgbClr val="3333cc"/>
                </a:solidFill>
                <a:latin typeface="標楷體"/>
                <a:ea typeface="標楷體"/>
              </a:rPr>
              <a:t>萬</a:t>
            </a:r>
            <a:r>
              <a:rPr b="1" lang="en-US" sz="2600" spc="-1" strike="noStrike">
                <a:solidFill>
                  <a:srgbClr val="3333cc"/>
                </a:solidFill>
                <a:latin typeface="標楷體"/>
                <a:ea typeface="標楷體"/>
              </a:rPr>
              <a:t>4,000</a:t>
            </a:r>
            <a:r>
              <a:rPr b="1" lang="en-US" sz="2600" spc="-1" strike="noStrike">
                <a:solidFill>
                  <a:srgbClr val="3333cc"/>
                </a:solidFill>
                <a:latin typeface="標楷體"/>
                <a:ea typeface="標楷體"/>
              </a:rPr>
              <a:t>元</a:t>
            </a:r>
            <a:r>
              <a:rPr b="1" lang="en-US" sz="2600" spc="-1" strike="noStrike">
                <a:solidFill>
                  <a:srgbClr val="3333cc"/>
                </a:solidFill>
                <a:latin typeface="標楷體"/>
                <a:ea typeface="標楷體"/>
              </a:rPr>
              <a:t>(</a:t>
            </a:r>
            <a:r>
              <a:rPr b="1" lang="en-US" sz="2600" spc="-1" strike="noStrike">
                <a:solidFill>
                  <a:srgbClr val="ff0000"/>
                </a:solidFill>
                <a:latin typeface="標楷體"/>
                <a:ea typeface="標楷體"/>
              </a:rPr>
              <a:t>地價總額</a:t>
            </a:r>
            <a:r>
              <a:rPr b="1" lang="en-US" sz="2600" spc="-1" strike="noStrike">
                <a:solidFill>
                  <a:srgbClr val="3333cc"/>
                </a:solidFill>
                <a:latin typeface="標楷體"/>
                <a:ea typeface="標楷體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標楷體"/>
                <a:ea typeface="標楷體"/>
              </a:rPr>
              <a:t>582</a:t>
            </a:r>
            <a:r>
              <a:rPr b="1" lang="en-US" sz="2600" spc="-1" strike="noStrike">
                <a:solidFill>
                  <a:srgbClr val="3333cc"/>
                </a:solidFill>
                <a:latin typeface="標楷體"/>
                <a:ea typeface="標楷體"/>
              </a:rPr>
              <a:t>萬</a:t>
            </a:r>
            <a:r>
              <a:rPr b="1" lang="en-US" sz="2600" spc="-1" strike="noStrike">
                <a:solidFill>
                  <a:srgbClr val="3333cc"/>
                </a:solidFill>
                <a:latin typeface="標楷體"/>
                <a:ea typeface="標楷體"/>
              </a:rPr>
              <a:t>4,000</a:t>
            </a:r>
            <a:r>
              <a:rPr b="1" lang="en-US" sz="2600" spc="-1" strike="noStrike">
                <a:solidFill>
                  <a:srgbClr val="3333cc"/>
                </a:solidFill>
                <a:latin typeface="標楷體"/>
                <a:ea typeface="標楷體"/>
              </a:rPr>
              <a:t>元</a:t>
            </a:r>
            <a:r>
              <a:rPr b="1" lang="en-US" sz="2600" spc="-1" strike="noStrike">
                <a:solidFill>
                  <a:srgbClr val="3333cc"/>
                </a:solidFill>
                <a:latin typeface="標楷體"/>
                <a:ea typeface="標楷體"/>
              </a:rPr>
              <a:t>-170</a:t>
            </a:r>
            <a:r>
              <a:rPr b="1" lang="en-US" sz="2600" spc="-1" strike="noStrike">
                <a:solidFill>
                  <a:srgbClr val="3333cc"/>
                </a:solidFill>
                <a:latin typeface="標楷體"/>
                <a:ea typeface="標楷體"/>
              </a:rPr>
              <a:t>萬元</a:t>
            </a:r>
            <a:r>
              <a:rPr b="1" lang="en-US" sz="2600" spc="-1" strike="noStrike">
                <a:solidFill>
                  <a:srgbClr val="3333cc"/>
                </a:solidFill>
                <a:latin typeface="標楷體"/>
                <a:ea typeface="標楷體"/>
              </a:rPr>
              <a:t>=412</a:t>
            </a:r>
            <a:r>
              <a:rPr b="1" lang="en-US" sz="2600" spc="-1" strike="noStrike">
                <a:solidFill>
                  <a:srgbClr val="3333cc"/>
                </a:solidFill>
                <a:latin typeface="標楷體"/>
                <a:ea typeface="標楷體"/>
              </a:rPr>
              <a:t>萬</a:t>
            </a:r>
            <a:r>
              <a:rPr b="1" lang="en-US" sz="2600" spc="-1" strike="noStrike">
                <a:solidFill>
                  <a:srgbClr val="3333cc"/>
                </a:solidFill>
                <a:latin typeface="標楷體"/>
                <a:ea typeface="標楷體"/>
              </a:rPr>
              <a:t>4,000</a:t>
            </a:r>
            <a:r>
              <a:rPr b="1" lang="en-US" sz="2600" spc="-1" strike="noStrike">
                <a:solidFill>
                  <a:srgbClr val="3333cc"/>
                </a:solidFill>
                <a:latin typeface="標楷體"/>
                <a:ea typeface="標楷體"/>
              </a:rPr>
              <a:t>元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標楷體"/>
                <a:ea typeface="標楷體"/>
              </a:rPr>
              <a:t>412</a:t>
            </a:r>
            <a:r>
              <a:rPr b="1" lang="en-US" sz="2600" spc="-1" strike="noStrike">
                <a:solidFill>
                  <a:srgbClr val="3333cc"/>
                </a:solidFill>
                <a:latin typeface="標楷體"/>
                <a:ea typeface="標楷體"/>
              </a:rPr>
              <a:t>萬</a:t>
            </a:r>
            <a:r>
              <a:rPr b="1" lang="en-US" sz="2600" spc="-1" strike="noStrike">
                <a:solidFill>
                  <a:srgbClr val="3333cc"/>
                </a:solidFill>
                <a:latin typeface="標楷體"/>
                <a:ea typeface="標楷體"/>
              </a:rPr>
              <a:t>4,000</a:t>
            </a:r>
            <a:r>
              <a:rPr b="1" lang="en-US" sz="2600" spc="-1" strike="noStrike">
                <a:solidFill>
                  <a:srgbClr val="3333cc"/>
                </a:solidFill>
                <a:latin typeface="標楷體"/>
                <a:ea typeface="標楷體"/>
              </a:rPr>
              <a:t>元</a:t>
            </a:r>
            <a:r>
              <a:rPr b="1" lang="en-US" sz="2600" spc="-1" strike="noStrike">
                <a:solidFill>
                  <a:srgbClr val="3333cc"/>
                </a:solidFill>
                <a:latin typeface="標楷體"/>
                <a:ea typeface="標楷體"/>
              </a:rPr>
              <a:t>/170</a:t>
            </a:r>
            <a:r>
              <a:rPr b="1" lang="en-US" sz="2600" spc="-1" strike="noStrike">
                <a:solidFill>
                  <a:srgbClr val="3333cc"/>
                </a:solidFill>
                <a:latin typeface="標楷體"/>
                <a:ea typeface="標楷體"/>
              </a:rPr>
              <a:t>萬元</a:t>
            </a:r>
            <a:r>
              <a:rPr b="1" lang="en-US" sz="2600" spc="-1" strike="noStrike">
                <a:solidFill>
                  <a:srgbClr val="3333cc"/>
                </a:solidFill>
                <a:latin typeface="標楷體"/>
                <a:ea typeface="標楷體"/>
              </a:rPr>
              <a:t>=</a:t>
            </a:r>
            <a:r>
              <a:rPr b="1" lang="en-US" sz="2600" spc="-1" strike="noStrike">
                <a:solidFill>
                  <a:srgbClr val="ff0000"/>
                </a:solidFill>
                <a:latin typeface="標楷體"/>
                <a:ea typeface="標楷體"/>
              </a:rPr>
              <a:t>2.42</a:t>
            </a:r>
            <a:r>
              <a:rPr b="1" lang="en-US" sz="2600" spc="-1" strike="noStrike">
                <a:solidFill>
                  <a:srgbClr val="ff0000"/>
                </a:solidFill>
                <a:latin typeface="標楷體"/>
                <a:ea typeface="標楷體"/>
              </a:rPr>
              <a:t>倍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標楷體"/>
                <a:ea typeface="標楷體"/>
              </a:rPr>
              <a:t>未超過累進起點地價</a:t>
            </a:r>
            <a:r>
              <a:rPr b="1" lang="en-US" sz="2600" spc="-1" strike="noStrike">
                <a:solidFill>
                  <a:srgbClr val="3333cc"/>
                </a:solidFill>
                <a:latin typeface="標楷體"/>
                <a:ea typeface="標楷體"/>
              </a:rPr>
              <a:t>*</a:t>
            </a:r>
            <a:r>
              <a:rPr b="1" lang="en-US" sz="2600" spc="-1" strike="noStrike">
                <a:solidFill>
                  <a:srgbClr val="3333cc"/>
                </a:solidFill>
                <a:latin typeface="標楷體"/>
                <a:ea typeface="標楷體"/>
              </a:rPr>
              <a:t>稅率</a:t>
            </a:r>
            <a:r>
              <a:rPr b="1" lang="en-US" sz="2600" spc="-1" strike="noStrike">
                <a:solidFill>
                  <a:srgbClr val="3333cc"/>
                </a:solidFill>
                <a:latin typeface="標楷體"/>
                <a:ea typeface="標楷體"/>
              </a:rPr>
              <a:t>=170</a:t>
            </a:r>
            <a:r>
              <a:rPr b="1" lang="en-US" sz="2600" spc="-1" strike="noStrike">
                <a:solidFill>
                  <a:srgbClr val="3333cc"/>
                </a:solidFill>
                <a:latin typeface="標楷體"/>
                <a:ea typeface="標楷體"/>
              </a:rPr>
              <a:t>萬元</a:t>
            </a:r>
            <a:r>
              <a:rPr b="1" lang="en-US" sz="2600" spc="-1" strike="noStrike">
                <a:solidFill>
                  <a:srgbClr val="3333cc"/>
                </a:solidFill>
                <a:latin typeface="標楷體"/>
                <a:ea typeface="標楷體"/>
              </a:rPr>
              <a:t>*1%=1</a:t>
            </a:r>
            <a:r>
              <a:rPr b="1" lang="en-US" sz="2600" spc="-1" strike="noStrike">
                <a:solidFill>
                  <a:srgbClr val="3333cc"/>
                </a:solidFill>
                <a:latin typeface="標楷體"/>
                <a:ea typeface="標楷體"/>
              </a:rPr>
              <a:t>萬</a:t>
            </a:r>
            <a:r>
              <a:rPr b="1" lang="en-US" sz="2600" spc="-1" strike="noStrike">
                <a:solidFill>
                  <a:srgbClr val="3333cc"/>
                </a:solidFill>
                <a:latin typeface="標楷體"/>
                <a:ea typeface="標楷體"/>
              </a:rPr>
              <a:t>7000</a:t>
            </a:r>
            <a:r>
              <a:rPr b="1" lang="en-US" sz="2600" spc="-1" strike="noStrike">
                <a:solidFill>
                  <a:srgbClr val="3333cc"/>
                </a:solidFill>
                <a:latin typeface="標楷體"/>
                <a:ea typeface="標楷體"/>
              </a:rPr>
              <a:t>元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標楷體"/>
                <a:ea typeface="標楷體"/>
              </a:rPr>
              <a:t>超過累進起點地價</a:t>
            </a:r>
            <a:r>
              <a:rPr b="1" lang="en-US" sz="2600" spc="-1" strike="noStrike">
                <a:solidFill>
                  <a:srgbClr val="ff0000"/>
                </a:solidFill>
                <a:latin typeface="標楷體"/>
                <a:ea typeface="標楷體"/>
              </a:rPr>
              <a:t>未逹</a:t>
            </a:r>
            <a:r>
              <a:rPr b="1" lang="en-US" sz="2600" spc="-1" strike="noStrike">
                <a:solidFill>
                  <a:srgbClr val="ff0000"/>
                </a:solidFill>
                <a:latin typeface="標楷體"/>
                <a:ea typeface="標楷體"/>
              </a:rPr>
              <a:t>5</a:t>
            </a:r>
            <a:r>
              <a:rPr b="1" lang="en-US" sz="2600" spc="-1" strike="noStrike">
                <a:solidFill>
                  <a:srgbClr val="ff0000"/>
                </a:solidFill>
                <a:latin typeface="標楷體"/>
                <a:ea typeface="標楷體"/>
              </a:rPr>
              <a:t>倍</a:t>
            </a:r>
            <a:r>
              <a:rPr b="1" lang="en-US" sz="2600" spc="-1" strike="noStrike">
                <a:solidFill>
                  <a:srgbClr val="3333cc"/>
                </a:solidFill>
                <a:latin typeface="標楷體"/>
                <a:ea typeface="標楷體"/>
              </a:rPr>
              <a:t>*</a:t>
            </a:r>
            <a:r>
              <a:rPr b="1" lang="en-US" sz="2600" spc="-1" strike="noStrike">
                <a:solidFill>
                  <a:srgbClr val="3333cc"/>
                </a:solidFill>
                <a:latin typeface="標楷體"/>
                <a:ea typeface="標楷體"/>
              </a:rPr>
              <a:t>稅率</a:t>
            </a:r>
            <a:r>
              <a:rPr b="1" lang="en-US" sz="2600" spc="-1" strike="noStrike">
                <a:solidFill>
                  <a:srgbClr val="3333cc"/>
                </a:solidFill>
                <a:latin typeface="標楷體"/>
                <a:ea typeface="標楷體"/>
              </a:rPr>
              <a:t>=242</a:t>
            </a:r>
            <a:r>
              <a:rPr b="1" lang="en-US" sz="2600" spc="-1" strike="noStrike">
                <a:solidFill>
                  <a:srgbClr val="3333cc"/>
                </a:solidFill>
                <a:latin typeface="標楷體"/>
                <a:ea typeface="標楷體"/>
              </a:rPr>
              <a:t>萬</a:t>
            </a:r>
            <a:r>
              <a:rPr b="1" lang="en-US" sz="2600" spc="-1" strike="noStrike">
                <a:solidFill>
                  <a:srgbClr val="3333cc"/>
                </a:solidFill>
                <a:latin typeface="標楷體"/>
                <a:ea typeface="標楷體"/>
              </a:rPr>
              <a:t>4000</a:t>
            </a:r>
            <a:r>
              <a:rPr b="1" lang="en-US" sz="2600" spc="-1" strike="noStrike">
                <a:solidFill>
                  <a:srgbClr val="3333cc"/>
                </a:solidFill>
                <a:latin typeface="標楷體"/>
                <a:ea typeface="標楷體"/>
              </a:rPr>
              <a:t>元</a:t>
            </a:r>
            <a:r>
              <a:rPr b="1" lang="en-US" sz="2600" spc="-1" strike="noStrike">
                <a:solidFill>
                  <a:srgbClr val="3333cc"/>
                </a:solidFill>
                <a:latin typeface="標楷體"/>
                <a:ea typeface="標楷體"/>
              </a:rPr>
              <a:t>*1.5%=3</a:t>
            </a:r>
            <a:r>
              <a:rPr b="1" lang="en-US" sz="2600" spc="-1" strike="noStrike">
                <a:solidFill>
                  <a:srgbClr val="3333cc"/>
                </a:solidFill>
                <a:latin typeface="標楷體"/>
                <a:ea typeface="標楷體"/>
              </a:rPr>
              <a:t>萬</a:t>
            </a:r>
            <a:r>
              <a:rPr b="1" lang="en-US" sz="2600" spc="-1" strike="noStrike">
                <a:solidFill>
                  <a:srgbClr val="3333cc"/>
                </a:solidFill>
                <a:latin typeface="標楷體"/>
                <a:ea typeface="標楷體"/>
              </a:rPr>
              <a:t>6360</a:t>
            </a:r>
            <a:r>
              <a:rPr b="1" lang="en-US" sz="2600" spc="-1" strike="noStrike">
                <a:solidFill>
                  <a:srgbClr val="3333cc"/>
                </a:solidFill>
                <a:latin typeface="標楷體"/>
                <a:ea typeface="標楷體"/>
              </a:rPr>
              <a:t>元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標楷體"/>
                <a:ea typeface="標楷體"/>
              </a:rPr>
              <a:t>1</a:t>
            </a:r>
            <a:r>
              <a:rPr b="1" lang="en-US" sz="2600" spc="-1" strike="noStrike">
                <a:solidFill>
                  <a:srgbClr val="3333cc"/>
                </a:solidFill>
                <a:latin typeface="標楷體"/>
                <a:ea typeface="標楷體"/>
              </a:rPr>
              <a:t>萬</a:t>
            </a:r>
            <a:r>
              <a:rPr b="1" lang="en-US" sz="2600" spc="-1" strike="noStrike">
                <a:solidFill>
                  <a:srgbClr val="3333cc"/>
                </a:solidFill>
                <a:latin typeface="標楷體"/>
                <a:ea typeface="標楷體"/>
              </a:rPr>
              <a:t>7000</a:t>
            </a:r>
            <a:r>
              <a:rPr b="1" lang="en-US" sz="2600" spc="-1" strike="noStrike">
                <a:solidFill>
                  <a:srgbClr val="3333cc"/>
                </a:solidFill>
                <a:latin typeface="標楷體"/>
                <a:ea typeface="標楷體"/>
              </a:rPr>
              <a:t>元</a:t>
            </a:r>
            <a:r>
              <a:rPr b="1" lang="en-US" sz="2600" spc="-1" strike="noStrike">
                <a:solidFill>
                  <a:srgbClr val="3333cc"/>
                </a:solidFill>
                <a:latin typeface="標楷體"/>
                <a:ea typeface="標楷體"/>
              </a:rPr>
              <a:t>+3</a:t>
            </a:r>
            <a:r>
              <a:rPr b="1" lang="en-US" sz="2600" spc="-1" strike="noStrike">
                <a:solidFill>
                  <a:srgbClr val="3333cc"/>
                </a:solidFill>
                <a:latin typeface="標楷體"/>
                <a:ea typeface="標楷體"/>
              </a:rPr>
              <a:t>萬</a:t>
            </a:r>
            <a:r>
              <a:rPr b="1" lang="en-US" sz="2600" spc="-1" strike="noStrike">
                <a:solidFill>
                  <a:srgbClr val="3333cc"/>
                </a:solidFill>
                <a:latin typeface="標楷體"/>
                <a:ea typeface="標楷體"/>
              </a:rPr>
              <a:t>6360</a:t>
            </a:r>
            <a:r>
              <a:rPr b="1" lang="en-US" sz="2600" spc="-1" strike="noStrike">
                <a:solidFill>
                  <a:srgbClr val="3333cc"/>
                </a:solidFill>
                <a:latin typeface="標楷體"/>
                <a:ea typeface="標楷體"/>
              </a:rPr>
              <a:t>元</a:t>
            </a:r>
            <a:r>
              <a:rPr b="1" lang="en-US" sz="2600" spc="-1" strike="noStrike">
                <a:solidFill>
                  <a:srgbClr val="3333cc"/>
                </a:solidFill>
                <a:latin typeface="標楷體"/>
                <a:ea typeface="標楷體"/>
              </a:rPr>
              <a:t>=</a:t>
            </a:r>
            <a:r>
              <a:rPr b="1" lang="en-US" sz="2600" spc="-1" strike="noStrike">
                <a:solidFill>
                  <a:srgbClr val="ff0000"/>
                </a:solidFill>
                <a:latin typeface="標楷體"/>
                <a:ea typeface="標楷體"/>
              </a:rPr>
              <a:t>5</a:t>
            </a:r>
            <a:r>
              <a:rPr b="1" lang="en-US" sz="2600" spc="-1" strike="noStrike">
                <a:solidFill>
                  <a:srgbClr val="ff0000"/>
                </a:solidFill>
                <a:latin typeface="標楷體"/>
                <a:ea typeface="標楷體"/>
              </a:rPr>
              <a:t>萬</a:t>
            </a:r>
            <a:r>
              <a:rPr b="1" lang="en-US" sz="2600" spc="-1" strike="noStrike">
                <a:solidFill>
                  <a:srgbClr val="ff0000"/>
                </a:solidFill>
                <a:latin typeface="標楷體"/>
                <a:ea typeface="標楷體"/>
              </a:rPr>
              <a:t>3360</a:t>
            </a:r>
            <a:r>
              <a:rPr b="1" lang="en-US" sz="2600" spc="-1" strike="noStrike">
                <a:solidFill>
                  <a:srgbClr val="ff0000"/>
                </a:solidFill>
                <a:latin typeface="標楷體"/>
                <a:ea typeface="標楷體"/>
              </a:rPr>
              <a:t>元</a:t>
            </a:r>
            <a:r>
              <a:rPr b="1" lang="en-US" sz="2600" spc="-1" strike="noStrike">
                <a:solidFill>
                  <a:srgbClr val="3333cc"/>
                </a:solidFill>
                <a:latin typeface="標楷體"/>
                <a:ea typeface="標楷體"/>
              </a:rPr>
              <a:t>---</a:t>
            </a:r>
            <a:r>
              <a:rPr b="1" lang="en-US" sz="2600" spc="-1" strike="noStrike">
                <a:solidFill>
                  <a:srgbClr val="3333cc"/>
                </a:solidFill>
                <a:latin typeface="標楷體"/>
                <a:ea typeface="標楷體"/>
              </a:rPr>
              <a:t>應納稅額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905120" y="1066680"/>
            <a:ext cx="3962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ahoma"/>
                <a:ea typeface="標楷體"/>
              </a:rPr>
              <a:t>簡報大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447920" y="1887480"/>
            <a:ext cx="670536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ahoma"/>
                <a:ea typeface="標楷體"/>
              </a:rPr>
              <a:t>一</a:t>
            </a:r>
            <a:r>
              <a:rPr b="1" lang="en-US" sz="2800" spc="-1" strike="noStrike">
                <a:solidFill>
                  <a:srgbClr val="0000cc"/>
                </a:solidFill>
                <a:latin typeface="Tahoma"/>
                <a:ea typeface="標楷體"/>
              </a:rPr>
              <a:t>、土地建物【移轉案件】申報流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ahoma"/>
                <a:ea typeface="標楷體"/>
              </a:rPr>
              <a:t>二、土地增值稅法令及稽徵實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ahoma"/>
                <a:ea typeface="標楷體"/>
              </a:rPr>
              <a:t>三、地價稅法令及稽徵實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ahoma"/>
                <a:ea typeface="標楷體"/>
              </a:rPr>
              <a:t>四、房屋稅法令及稽徵實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ahoma"/>
                <a:ea typeface="標楷體"/>
              </a:rPr>
              <a:t>五、使用牌照稅法令及稽徵實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ahoma"/>
                <a:ea typeface="標楷體"/>
              </a:rPr>
              <a:t>六、契稅法令及稽徵實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ahoma"/>
                <a:ea typeface="標楷體"/>
              </a:rPr>
              <a:t>七、娛樂稅法令及稽徵實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  <a:ea typeface="標楷體"/>
              </a:rPr>
              <a:t>地價稅法令及實務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755640" y="2205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1080" indent="-811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1380960"/>
                <a:tab algn="l" pos="2295360"/>
                <a:tab algn="l" pos="3209760"/>
                <a:tab algn="l" pos="4124160"/>
                <a:tab algn="l" pos="5038560"/>
                <a:tab algn="l" pos="5952960"/>
                <a:tab algn="l" pos="6867360"/>
                <a:tab algn="l" pos="7781760"/>
                <a:tab algn="l" pos="8696160"/>
                <a:tab algn="l" pos="9610560"/>
                <a:tab algn="l" pos="10524960"/>
                <a:tab algn="l" pos="1078236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ahoma"/>
                <a:ea typeface="標楷體"/>
              </a:rPr>
              <a:t>與農業經營不可分離：</a:t>
            </a:r>
            <a:r>
              <a:rPr b="1" lang="en-US" sz="3200" spc="-1" strike="noStrike">
                <a:solidFill>
                  <a:srgbClr val="3333cc"/>
                </a:solidFill>
                <a:latin typeface="Tahoma"/>
                <a:ea typeface="標楷體"/>
              </a:rPr>
              <a:t>5/1-5/31</a:t>
            </a:r>
            <a:r>
              <a:rPr b="1" lang="en-US" sz="3200" spc="-1" strike="noStrike">
                <a:solidFill>
                  <a:srgbClr val="3333cc"/>
                </a:solidFill>
                <a:latin typeface="Tahoma"/>
                <a:ea typeface="標楷體"/>
              </a:rPr>
              <a:t>向公所申請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811080" indent="-811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1380960"/>
                <a:tab algn="l" pos="2295360"/>
                <a:tab algn="l" pos="3209760"/>
                <a:tab algn="l" pos="4124160"/>
                <a:tab algn="l" pos="5038560"/>
                <a:tab algn="l" pos="5952960"/>
                <a:tab algn="l" pos="6867360"/>
                <a:tab algn="l" pos="7781760"/>
                <a:tab algn="l" pos="8696160"/>
                <a:tab algn="l" pos="9610560"/>
                <a:tab algn="l" pos="10524960"/>
                <a:tab algn="l" pos="1078236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ahoma"/>
                <a:ea typeface="標楷體"/>
              </a:rPr>
              <a:t>公共設施保留地：千分之六、千分之二、免稅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811080" indent="-811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1380960"/>
                <a:tab algn="l" pos="2295360"/>
                <a:tab algn="l" pos="3209760"/>
                <a:tab algn="l" pos="4124160"/>
                <a:tab algn="l" pos="5038560"/>
                <a:tab algn="l" pos="5952960"/>
                <a:tab algn="l" pos="6867360"/>
                <a:tab algn="l" pos="7781760"/>
                <a:tab algn="l" pos="8696160"/>
                <a:tab algn="l" pos="9610560"/>
                <a:tab algn="l" pos="10524960"/>
                <a:tab algn="l" pos="1078236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ahoma"/>
                <a:ea typeface="標楷體"/>
              </a:rPr>
              <a:t>私有無償供公眾通行之道路土地免徵</a:t>
            </a:r>
            <a:r>
              <a:rPr b="1" lang="en-US" sz="3200" spc="-1" strike="noStrike">
                <a:solidFill>
                  <a:srgbClr val="3333cc"/>
                </a:solidFill>
                <a:latin typeface="Tahoma"/>
                <a:ea typeface="標楷體"/>
              </a:rPr>
              <a:t>(</a:t>
            </a:r>
            <a:r>
              <a:rPr b="1" lang="en-US" sz="3200" spc="-1" strike="noStrike">
                <a:solidFill>
                  <a:srgbClr val="3333cc"/>
                </a:solidFill>
                <a:latin typeface="Tahoma"/>
                <a:ea typeface="標楷體"/>
              </a:rPr>
              <a:t>法定空地除外</a:t>
            </a:r>
            <a:r>
              <a:rPr b="1" lang="en-US" sz="3200" spc="-1" strike="noStrike">
                <a:solidFill>
                  <a:srgbClr val="3333cc"/>
                </a:solidFill>
                <a:latin typeface="Tahoma"/>
                <a:ea typeface="標楷體"/>
              </a:rPr>
              <a:t>)</a:t>
            </a:r>
            <a:r>
              <a:rPr b="1" lang="en-US" sz="3200" spc="-1" strike="noStrike">
                <a:solidFill>
                  <a:srgbClr val="3333cc"/>
                </a:solidFill>
                <a:latin typeface="Tahoma"/>
                <a:ea typeface="標楷體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811080" indent="-811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1380960"/>
                <a:tab algn="l" pos="2295360"/>
                <a:tab algn="l" pos="3209760"/>
                <a:tab algn="l" pos="4124160"/>
                <a:tab algn="l" pos="5038560"/>
                <a:tab algn="l" pos="5952960"/>
                <a:tab algn="l" pos="6867360"/>
                <a:tab algn="l" pos="7781760"/>
                <a:tab algn="l" pos="8696160"/>
                <a:tab algn="l" pos="9610560"/>
                <a:tab algn="l" pos="10524960"/>
                <a:tab algn="l" pos="1078236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ahoma"/>
                <a:ea typeface="標楷體"/>
              </a:rPr>
              <a:t>區段徵收重劃土地：辦理期間全免，辦理完成減半徵收两年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  <a:ea typeface="標楷體"/>
              </a:rPr>
              <a:t>房屋稅法令及實務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10920" y="2276640"/>
            <a:ext cx="8380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1080" indent="-811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1380960"/>
                <a:tab algn="l" pos="2295360"/>
                <a:tab algn="l" pos="3209760"/>
                <a:tab algn="l" pos="4124160"/>
                <a:tab algn="l" pos="5038560"/>
                <a:tab algn="l" pos="5952960"/>
                <a:tab algn="l" pos="6867360"/>
                <a:tab algn="l" pos="7781760"/>
                <a:tab algn="l" pos="8696160"/>
                <a:tab algn="l" pos="9610560"/>
                <a:tab algn="l" pos="10524960"/>
                <a:tab algn="l" pos="1078236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標楷體"/>
              </a:rPr>
              <a:t>課稅對象：固定於土地上的建築物，可用來居住、工作或營業；可增加房屋使用價值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811080" indent="-811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1380960"/>
                <a:tab algn="l" pos="2295360"/>
                <a:tab algn="l" pos="3209760"/>
                <a:tab algn="l" pos="4124160"/>
                <a:tab algn="l" pos="5038560"/>
                <a:tab algn="l" pos="5952960"/>
                <a:tab algn="l" pos="6867360"/>
                <a:tab algn="l" pos="7781760"/>
                <a:tab algn="l" pos="8696160"/>
                <a:tab algn="l" pos="9610560"/>
                <a:tab algn="l" pos="10524960"/>
                <a:tab algn="l" pos="1078236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標楷體"/>
              </a:rPr>
              <a:t>納稅人：所有權人、現住人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811080" indent="-811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1380960"/>
                <a:tab algn="l" pos="2295360"/>
                <a:tab algn="l" pos="3209760"/>
                <a:tab algn="l" pos="4124160"/>
                <a:tab algn="l" pos="5038560"/>
                <a:tab algn="l" pos="5952960"/>
                <a:tab algn="l" pos="6867360"/>
                <a:tab algn="l" pos="7781760"/>
                <a:tab algn="l" pos="8696160"/>
                <a:tab algn="l" pos="9610560"/>
                <a:tab algn="l" pos="10524960"/>
                <a:tab algn="l" pos="1078236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標楷體"/>
              </a:rPr>
              <a:t>稅率：住家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標楷體"/>
              </a:rPr>
              <a:t>1.2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標楷體"/>
              </a:rPr>
              <a:t>％、非住家非營業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標楷體"/>
              </a:rPr>
              <a:t>2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標楷體"/>
              </a:rPr>
              <a:t>％、營業用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標楷體"/>
              </a:rPr>
              <a:t>3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標楷體"/>
              </a:rPr>
              <a:t>％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811080" indent="-811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1380960"/>
                <a:tab algn="l" pos="2295360"/>
                <a:tab algn="l" pos="3209760"/>
                <a:tab algn="l" pos="4124160"/>
                <a:tab algn="l" pos="5038560"/>
                <a:tab algn="l" pos="5952960"/>
                <a:tab algn="l" pos="6867360"/>
                <a:tab algn="l" pos="7781760"/>
                <a:tab algn="l" pos="8696160"/>
                <a:tab algn="l" pos="9610560"/>
                <a:tab algn="l" pos="10524960"/>
                <a:tab algn="l" pos="1078236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標楷體"/>
              </a:rPr>
              <a:t>核課期間：前一年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標楷體"/>
              </a:rPr>
              <a:t>7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標楷體"/>
              </a:rPr>
              <a:t>月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標楷體"/>
              </a:rPr>
              <a:t>1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標楷體"/>
              </a:rPr>
              <a:t>日起至當年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標楷體"/>
              </a:rPr>
              <a:t>6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標楷體"/>
              </a:rPr>
              <a:t>月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標楷體"/>
              </a:rPr>
              <a:t>30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標楷體"/>
              </a:rPr>
              <a:t>日止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811080" indent="-811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1380960"/>
                <a:tab algn="l" pos="2295360"/>
                <a:tab algn="l" pos="3209760"/>
                <a:tab algn="l" pos="4124160"/>
                <a:tab algn="l" pos="5038560"/>
                <a:tab algn="l" pos="5952960"/>
                <a:tab algn="l" pos="6867360"/>
                <a:tab algn="l" pos="7781760"/>
                <a:tab algn="l" pos="8696160"/>
                <a:tab algn="l" pos="9610560"/>
                <a:tab algn="l" pos="10524960"/>
                <a:tab algn="l" pos="1078236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標楷體"/>
              </a:rPr>
              <a:t>繳納期限：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標楷體"/>
              </a:rPr>
              <a:t>5/1-5/31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標楷體"/>
              </a:rPr>
              <a:t>（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  <a:ea typeface="標楷體"/>
              </a:rPr>
              <a:t>按月計算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標楷體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  <a:ea typeface="標楷體"/>
              </a:rPr>
              <a:t>房屋稅法令及實務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761760" y="1707840"/>
            <a:ext cx="8057880" cy="54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1080" indent="-811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1380960"/>
                <a:tab algn="l" pos="2295360"/>
                <a:tab algn="l" pos="3209760"/>
                <a:tab algn="l" pos="4124160"/>
                <a:tab algn="l" pos="5038560"/>
                <a:tab algn="l" pos="5952960"/>
                <a:tab algn="l" pos="6867360"/>
                <a:tab algn="l" pos="7781760"/>
                <a:tab algn="l" pos="8696160"/>
                <a:tab algn="l" pos="9610560"/>
                <a:tab algn="l" pos="10524960"/>
                <a:tab algn="l" pos="1078236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標楷體"/>
              </a:rPr>
              <a:t>應納稅額＝房屋標準單價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標楷體"/>
              </a:rPr>
              <a:t>×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標楷體"/>
              </a:rPr>
              <a:t>面積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標楷體"/>
              </a:rPr>
              <a:t>×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標楷體"/>
              </a:rPr>
              <a:t>（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標楷體"/>
              </a:rPr>
              <a:t>1-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標楷體"/>
              </a:rPr>
              <a:t>折舊率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標楷體"/>
              </a:rPr>
              <a:t>×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標楷體"/>
              </a:rPr>
              <a:t>經歷年數）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標楷體"/>
              </a:rPr>
              <a:t>×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標楷體"/>
              </a:rPr>
              <a:t>街路等級調整率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標楷體"/>
              </a:rPr>
              <a:t>×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標楷體"/>
              </a:rPr>
              <a:t>適用稅率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811080" indent="-811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1380960"/>
                <a:tab algn="l" pos="2295360"/>
                <a:tab algn="l" pos="3209760"/>
                <a:tab algn="l" pos="4124160"/>
                <a:tab algn="l" pos="5038560"/>
                <a:tab algn="l" pos="5952960"/>
                <a:tab algn="l" pos="6867360"/>
                <a:tab algn="l" pos="7781760"/>
                <a:tab algn="l" pos="8696160"/>
                <a:tab algn="l" pos="9610560"/>
                <a:tab algn="l" pos="10524960"/>
                <a:tab algn="l" pos="1078236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標楷體"/>
              </a:rPr>
              <a:t>減免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811080" indent="-811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1380960"/>
                <a:tab algn="l" pos="2295360"/>
                <a:tab algn="l" pos="3209760"/>
                <a:tab algn="l" pos="4124160"/>
                <a:tab algn="l" pos="5038560"/>
                <a:tab algn="l" pos="5952960"/>
                <a:tab algn="l" pos="6867360"/>
                <a:tab algn="l" pos="7781760"/>
                <a:tab algn="l" pos="8696160"/>
                <a:tab algn="l" pos="9610560"/>
                <a:tab algn="l" pos="10524960"/>
                <a:tab algn="l" pos="1078236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標楷體"/>
              </a:rPr>
              <a:t>焚燬、坍塌、拆除至不堪居住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  <a:ea typeface="標楷體"/>
              </a:rPr>
              <a:t>（停止課徵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811080" indent="-811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1380960"/>
                <a:tab algn="l" pos="2295360"/>
                <a:tab algn="l" pos="3209760"/>
                <a:tab algn="l" pos="4124160"/>
                <a:tab algn="l" pos="5038560"/>
                <a:tab algn="l" pos="5952960"/>
                <a:tab algn="l" pos="6867360"/>
                <a:tab algn="l" pos="7781760"/>
                <a:tab algn="l" pos="8696160"/>
                <a:tab algn="l" pos="9610560"/>
                <a:tab algn="l" pos="10524960"/>
                <a:tab algn="l" pos="1078236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標楷體"/>
              </a:rPr>
              <a:t>災害毀損五成以上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  <a:ea typeface="標楷體"/>
              </a:rPr>
              <a:t>（免徵）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標楷體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811080" indent="-811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1380960"/>
                <a:tab algn="l" pos="2295360"/>
                <a:tab algn="l" pos="3209760"/>
                <a:tab algn="l" pos="4124160"/>
                <a:tab algn="l" pos="5038560"/>
                <a:tab algn="l" pos="5952960"/>
                <a:tab algn="l" pos="6867360"/>
                <a:tab algn="l" pos="7781760"/>
                <a:tab algn="l" pos="8696160"/>
                <a:tab algn="l" pos="9610560"/>
                <a:tab algn="l" pos="10524960"/>
                <a:tab algn="l" pos="1078236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標楷體"/>
              </a:rPr>
              <a:t>災害毀損三成以上不及五成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  <a:ea typeface="標楷體"/>
              </a:rPr>
              <a:t>（減半徵收）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標楷體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811080" indent="-811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1380960"/>
                <a:tab algn="l" pos="2295360"/>
                <a:tab algn="l" pos="3209760"/>
                <a:tab algn="l" pos="4124160"/>
                <a:tab algn="l" pos="5038560"/>
                <a:tab algn="l" pos="5952960"/>
                <a:tab algn="l" pos="6867360"/>
                <a:tab algn="l" pos="7781760"/>
                <a:tab algn="l" pos="8696160"/>
                <a:tab algn="l" pos="9610560"/>
                <a:tab algn="l" pos="10524960"/>
                <a:tab algn="l" pos="1078236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標楷體"/>
              </a:rPr>
              <a:t>專供飼養禽畜及農業生產用房屋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  <a:ea typeface="標楷體"/>
              </a:rPr>
              <a:t>(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  <a:ea typeface="標楷體"/>
              </a:rPr>
              <a:t>免徵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  <a:ea typeface="標楷體"/>
              </a:rPr>
              <a:t>)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標楷體"/>
              </a:rPr>
              <a:t>。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811080" indent="-811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1380960"/>
                <a:tab algn="l" pos="2295360"/>
                <a:tab algn="l" pos="3209760"/>
                <a:tab algn="l" pos="4124160"/>
                <a:tab algn="l" pos="5038560"/>
                <a:tab algn="l" pos="5952960"/>
                <a:tab algn="l" pos="6867360"/>
                <a:tab algn="l" pos="7781760"/>
                <a:tab algn="l" pos="8696160"/>
                <a:tab algn="l" pos="9610560"/>
                <a:tab algn="l" pos="10524960"/>
                <a:tab algn="l" pos="1078236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標楷體"/>
              </a:rPr>
              <a:t>合法登記工廠、自有房屋、供直接生產使用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  <a:ea typeface="標楷體"/>
              </a:rPr>
              <a:t>(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  <a:ea typeface="標楷體"/>
              </a:rPr>
              <a:t>營業減半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  <a:ea typeface="標楷體"/>
              </a:rPr>
              <a:t>)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標楷體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811080" indent="-811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1380960"/>
                <a:tab algn="l" pos="2295360"/>
                <a:tab algn="l" pos="3209760"/>
                <a:tab algn="l" pos="4124160"/>
                <a:tab algn="l" pos="5038560"/>
                <a:tab algn="l" pos="5952960"/>
                <a:tab algn="l" pos="6867360"/>
                <a:tab algn="l" pos="7781760"/>
                <a:tab algn="l" pos="8696160"/>
                <a:tab algn="l" pos="9610560"/>
                <a:tab algn="l" pos="10524960"/>
                <a:tab algn="l" pos="1078236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標楷體"/>
              </a:rPr>
              <a:t>慈善救濟事業、公益社團辦公用房屋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  <a:ea typeface="標楷體"/>
              </a:rPr>
              <a:t>(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  <a:ea typeface="標楷體"/>
              </a:rPr>
              <a:t>免徵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  <a:ea typeface="標楷體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811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380960"/>
                <a:tab algn="l" pos="2295360"/>
                <a:tab algn="l" pos="3209760"/>
                <a:tab algn="l" pos="4124160"/>
                <a:tab algn="l" pos="5038560"/>
                <a:tab algn="l" pos="5952960"/>
                <a:tab algn="l" pos="6867360"/>
                <a:tab algn="l" pos="7781760"/>
                <a:tab algn="l" pos="8696160"/>
                <a:tab algn="l" pos="9610560"/>
                <a:tab algn="l" pos="1052496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  <a:ea typeface="標楷體"/>
              </a:rPr>
              <a:t>使用牌照稅法令及實務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755640" y="2204640"/>
            <a:ext cx="7920000" cy="43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1080" indent="-811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1380960"/>
                <a:tab algn="l" pos="2295360"/>
                <a:tab algn="l" pos="3209760"/>
                <a:tab algn="l" pos="4124160"/>
                <a:tab algn="l" pos="5038560"/>
                <a:tab algn="l" pos="5952960"/>
                <a:tab algn="l" pos="6867360"/>
                <a:tab algn="l" pos="7781760"/>
                <a:tab algn="l" pos="8696160"/>
                <a:tab algn="l" pos="9610560"/>
                <a:tab algn="l" pos="10524960"/>
                <a:tab algn="l" pos="1078236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標楷體"/>
              </a:rPr>
              <a:t>開徵日期：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標楷體"/>
              </a:rPr>
              <a:t>4/1-4/30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標楷體"/>
              </a:rPr>
              <a:t>（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  <a:ea typeface="標楷體"/>
              </a:rPr>
              <a:t>按日計算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標楷體"/>
              </a:rPr>
              <a:t>）。營業用（上期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標楷體"/>
              </a:rPr>
              <a:t>4/1-4/30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標楷體"/>
              </a:rPr>
              <a:t>；下期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標楷體"/>
              </a:rPr>
              <a:t>10/1-10/30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標楷體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811080" indent="-811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1380960"/>
                <a:tab algn="l" pos="2295360"/>
                <a:tab algn="l" pos="3209760"/>
                <a:tab algn="l" pos="4124160"/>
                <a:tab algn="l" pos="5038560"/>
                <a:tab algn="l" pos="5952960"/>
                <a:tab algn="l" pos="6867360"/>
                <a:tab algn="l" pos="7781760"/>
                <a:tab algn="l" pos="8696160"/>
                <a:tab algn="l" pos="9610560"/>
                <a:tab algn="l" pos="10524960"/>
                <a:tab algn="l" pos="1078236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標楷體"/>
              </a:rPr>
              <a:t>免徵牌照稅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1166760" indent="-70956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"/>
              <a:tabLst>
                <a:tab algn="l" pos="1380960"/>
                <a:tab algn="l" pos="2295360"/>
                <a:tab algn="l" pos="3209760"/>
                <a:tab algn="l" pos="4124160"/>
                <a:tab algn="l" pos="5038560"/>
                <a:tab algn="l" pos="5952960"/>
                <a:tab algn="l" pos="6867360"/>
                <a:tab algn="l" pos="7781760"/>
                <a:tab algn="l" pos="8696160"/>
                <a:tab algn="l" pos="9610560"/>
                <a:tab algn="l" pos="10524960"/>
                <a:tab algn="l" pos="1078236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  <a:ea typeface="標楷體"/>
              </a:rPr>
              <a:t>殘障人士本身有駕駛執照：身心障礙手冊、駕駛執照、行車執照、身分證及車輛所有人私章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1166760" indent="-70956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"/>
              <a:tabLst>
                <a:tab algn="l" pos="1380960"/>
                <a:tab algn="l" pos="2295360"/>
                <a:tab algn="l" pos="3209760"/>
                <a:tab algn="l" pos="4124160"/>
                <a:tab algn="l" pos="5038560"/>
                <a:tab algn="l" pos="5952960"/>
                <a:tab algn="l" pos="6867360"/>
                <a:tab algn="l" pos="7781760"/>
                <a:tab algn="l" pos="8696160"/>
                <a:tab algn="l" pos="9610560"/>
                <a:tab algn="l" pos="10524960"/>
                <a:tab algn="l" pos="1078236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  <a:ea typeface="標楷體"/>
              </a:rPr>
              <a:t>殘障人士沒有駕駛執照：心障礙手冊、行車執照、戶口名簿（車主與殘障者設同一戶籍）車輛所有人私章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1166760" indent="-70956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"/>
              <a:tabLst>
                <a:tab algn="l" pos="1380960"/>
                <a:tab algn="l" pos="2295360"/>
                <a:tab algn="l" pos="3209760"/>
                <a:tab algn="l" pos="4124160"/>
                <a:tab algn="l" pos="5038560"/>
                <a:tab algn="l" pos="5952960"/>
                <a:tab algn="l" pos="6867360"/>
                <a:tab algn="l" pos="7781760"/>
                <a:tab algn="l" pos="8696160"/>
                <a:tab algn="l" pos="9610560"/>
                <a:tab algn="l" pos="10524960"/>
                <a:tab algn="l" pos="1078236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標楷體"/>
              </a:rPr>
              <a:t>毎戶以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標楷體"/>
              </a:rPr>
              <a:t>1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標楷體"/>
              </a:rPr>
              <a:t>輛為限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  <a:ea typeface="標楷體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  <a:ea typeface="標楷體"/>
              </a:rPr>
              <a:t>使用牌照稅法令及實務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68360" y="2276640"/>
            <a:ext cx="8136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1080" indent="-811080">
              <a:spcBef>
                <a:spcPts val="901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1380960"/>
                <a:tab algn="l" pos="2295360"/>
                <a:tab algn="l" pos="3209760"/>
                <a:tab algn="l" pos="4124160"/>
                <a:tab algn="l" pos="5038560"/>
                <a:tab algn="l" pos="5952960"/>
                <a:tab algn="l" pos="6867360"/>
                <a:tab algn="l" pos="7781760"/>
                <a:tab algn="l" pos="8696160"/>
                <a:tab algn="l" pos="9610560"/>
                <a:tab algn="l" pos="10524960"/>
                <a:tab algn="l" pos="1078236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ahoma"/>
                <a:ea typeface="標楷體"/>
              </a:rPr>
              <a:t>車子不用不要繳冤枉稅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1166760" indent="-709560"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"/>
              <a:tabLst>
                <a:tab algn="l" pos="1380960"/>
                <a:tab algn="l" pos="2295360"/>
                <a:tab algn="l" pos="3209760"/>
                <a:tab algn="l" pos="4124160"/>
                <a:tab algn="l" pos="5038560"/>
                <a:tab algn="l" pos="5952960"/>
                <a:tab algn="l" pos="6867360"/>
                <a:tab algn="l" pos="7781760"/>
                <a:tab algn="l" pos="8696160"/>
                <a:tab algn="l" pos="9610560"/>
                <a:tab algn="l" pos="10524960"/>
                <a:tab algn="l" pos="1078236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標楷體"/>
              </a:rPr>
              <a:t>出國長期不用（向監理站辦停駛登記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1166760" indent="-709560"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"/>
              <a:tabLst>
                <a:tab algn="l" pos="1380960"/>
                <a:tab algn="l" pos="2295360"/>
                <a:tab algn="l" pos="3209760"/>
                <a:tab algn="l" pos="4124160"/>
                <a:tab algn="l" pos="5038560"/>
                <a:tab algn="l" pos="5952960"/>
                <a:tab algn="l" pos="6867360"/>
                <a:tab algn="l" pos="7781760"/>
                <a:tab algn="l" pos="8696160"/>
                <a:tab algn="l" pos="9610560"/>
                <a:tab algn="l" pos="10524960"/>
                <a:tab algn="l" pos="1078236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標楷體"/>
              </a:rPr>
              <a:t>車輛老舊報廢（向監理站辦理註銷牌照登記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1166760" indent="-709560"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"/>
              <a:tabLst>
                <a:tab algn="l" pos="1380960"/>
                <a:tab algn="l" pos="2295360"/>
                <a:tab algn="l" pos="3209760"/>
                <a:tab algn="l" pos="4124160"/>
                <a:tab algn="l" pos="5038560"/>
                <a:tab algn="l" pos="5952960"/>
                <a:tab algn="l" pos="6867360"/>
                <a:tab algn="l" pos="7781760"/>
                <a:tab algn="l" pos="8696160"/>
                <a:tab algn="l" pos="9610560"/>
                <a:tab algn="l" pos="10524960"/>
                <a:tab algn="l" pos="1078236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標楷體"/>
              </a:rPr>
              <a:t>車子被偷或被扣押（向警察局報案；被政府機關扣押則憑所出具文件辦理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1166760" indent="-709560"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"/>
              <a:tabLst>
                <a:tab algn="l" pos="1380960"/>
                <a:tab algn="l" pos="2295360"/>
                <a:tab algn="l" pos="3209760"/>
                <a:tab algn="l" pos="4124160"/>
                <a:tab algn="l" pos="5038560"/>
                <a:tab algn="l" pos="5952960"/>
                <a:tab algn="l" pos="6867360"/>
                <a:tab algn="l" pos="7781760"/>
                <a:tab algn="l" pos="8696160"/>
                <a:tab algn="l" pos="9610560"/>
                <a:tab algn="l" pos="10524960"/>
                <a:tab algn="l" pos="1078236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標楷體"/>
              </a:rPr>
              <a:t>車子賣掉但買受人拒不辦過戶手續（寄存證信函再至監理站辦理註銷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115092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  <a:ea typeface="標楷體"/>
              </a:rPr>
              <a:t>契稅法令及實務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914400" y="2362320"/>
          <a:ext cx="6934320" cy="4162320"/>
        </p:xfrm>
        <a:graphic>
          <a:graphicData uri="http://schemas.openxmlformats.org/drawingml/2006/table">
            <a:tbl>
              <a:tblPr/>
              <a:tblGrid>
                <a:gridCol w="2311560"/>
                <a:gridCol w="2311200"/>
                <a:gridCol w="2311560"/>
              </a:tblGrid>
              <a:tr h="67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ahoma"/>
                          <a:ea typeface="標楷體"/>
                        </a:rPr>
                        <a:t>契稅種類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ahoma"/>
                          <a:ea typeface="標楷體"/>
                        </a:rPr>
                        <a:t>稅率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ahoma"/>
                          <a:ea typeface="標楷體"/>
                        </a:rPr>
                        <a:t>納稅義務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ahoma"/>
                          <a:ea typeface="標楷體"/>
                        </a:rPr>
                        <a:t>買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ahoma"/>
                          <a:ea typeface="標楷體"/>
                        </a:rPr>
                        <a:t>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ahoma"/>
                          <a:ea typeface="標楷體"/>
                        </a:rPr>
                        <a:t>買受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ahoma"/>
                          <a:ea typeface="標楷體"/>
                        </a:rPr>
                        <a:t>典權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ahoma"/>
                          <a:ea typeface="標楷體"/>
                        </a:rPr>
                        <a:t>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ahoma"/>
                          <a:ea typeface="標楷體"/>
                        </a:rPr>
                        <a:t>典權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ahoma"/>
                          <a:ea typeface="標楷體"/>
                        </a:rPr>
                        <a:t>交換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ahoma"/>
                          <a:ea typeface="標楷體"/>
                        </a:rPr>
                        <a:t>2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ahoma"/>
                          <a:ea typeface="標楷體"/>
                        </a:rPr>
                        <a:t>交換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ahoma"/>
                          <a:ea typeface="標楷體"/>
                        </a:rPr>
                        <a:t>贈與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ahoma"/>
                          <a:ea typeface="標楷體"/>
                        </a:rPr>
                        <a:t>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ahoma"/>
                          <a:ea typeface="標楷體"/>
                        </a:rPr>
                        <a:t>受贈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ahoma"/>
                          <a:ea typeface="標楷體"/>
                        </a:rPr>
                        <a:t>分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ahoma"/>
                          <a:ea typeface="標楷體"/>
                        </a:rPr>
                        <a:t>2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ahoma"/>
                          <a:ea typeface="標楷體"/>
                        </a:rPr>
                        <a:t>分割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ahoma"/>
                          <a:ea typeface="標楷體"/>
                        </a:rPr>
                        <a:t>占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ahoma"/>
                          <a:ea typeface="標楷體"/>
                        </a:rPr>
                        <a:t>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ahoma"/>
                          <a:ea typeface="標楷體"/>
                        </a:rPr>
                        <a:t>占有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5" name=""/>
          <p:cNvSpPr/>
          <p:nvPr/>
        </p:nvSpPr>
        <p:spPr>
          <a:xfrm>
            <a:off x="1143000" y="1828800"/>
            <a:ext cx="563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  <a:ea typeface="標楷體"/>
              </a:rPr>
              <a:t>一、契稅種類、稅率、納稅義務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2460960" y="914400"/>
            <a:ext cx="2527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  <a:ea typeface="標楷體"/>
              </a:rPr>
              <a:t>契稅法令及實務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57200" y="2209680"/>
            <a:ext cx="838188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  <a:ea typeface="標楷體"/>
              </a:rPr>
              <a:t>二、契價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標楷體"/>
              </a:rPr>
              <a:t>  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標楷體"/>
              </a:rPr>
              <a:t>(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標楷體"/>
              </a:rPr>
              <a:t>一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標楷體"/>
              </a:rPr>
              <a:t>)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標楷體"/>
              </a:rPr>
              <a:t>以當地不動產評價委員會評定之標準價格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標楷體"/>
              </a:rPr>
              <a:t>      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標楷體"/>
              </a:rPr>
              <a:t>稅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標楷體"/>
              </a:rPr>
              <a:t>  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標楷體"/>
              </a:rPr>
              <a:t>(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標楷體"/>
              </a:rPr>
              <a:t>二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標楷體"/>
              </a:rPr>
              <a:t>)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標楷體"/>
              </a:rPr>
              <a:t>依法領買或標購公產或向法院標購拍賣之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標楷體"/>
              </a:rPr>
              <a:t>      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標楷體"/>
              </a:rPr>
              <a:t>動產，如買賣價格高於評定標準價格時，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標楷體"/>
              </a:rPr>
              <a:t>      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標楷體"/>
              </a:rPr>
              <a:t>以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  <a:ea typeface="標楷體"/>
              </a:rPr>
              <a:t>選擇較低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標楷體"/>
              </a:rPr>
              <a:t>的評定標準價格申報課徵契稅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2308680" y="914400"/>
            <a:ext cx="2527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  <a:ea typeface="標楷體"/>
              </a:rPr>
              <a:t>契稅法令及實務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295280" y="2286000"/>
            <a:ext cx="6324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598320" y="2249640"/>
          <a:ext cx="8077320" cy="4427280"/>
        </p:xfrm>
        <a:graphic>
          <a:graphicData uri="http://schemas.openxmlformats.org/drawingml/2006/table">
            <a:tbl>
              <a:tblPr/>
              <a:tblGrid>
                <a:gridCol w="3810240"/>
                <a:gridCol w="4267080"/>
              </a:tblGrid>
              <a:tr h="63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ahoma"/>
                          <a:ea typeface="標楷體"/>
                        </a:rPr>
                        <a:t>一般移轉案件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ahoma"/>
                          <a:ea typeface="標楷體"/>
                        </a:rPr>
                        <a:t>立約日起</a:t>
                      </a: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ahoma"/>
                          <a:ea typeface="標楷體"/>
                        </a:rPr>
                        <a:t>30</a:t>
                      </a: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ahoma"/>
                          <a:ea typeface="標楷體"/>
                        </a:rPr>
                        <a:t>日內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ahoma"/>
                          <a:ea typeface="標楷體"/>
                        </a:rPr>
                        <a:t>法拍案件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ahoma"/>
                          <a:ea typeface="標楷體"/>
                        </a:rPr>
                        <a:t>權利移轉證明書核發日起</a:t>
                      </a: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ahoma"/>
                          <a:ea typeface="標楷體"/>
                        </a:rPr>
                        <a:t>30</a:t>
                      </a: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ahoma"/>
                          <a:ea typeface="標楷體"/>
                        </a:rPr>
                        <a:t>日內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ahoma"/>
                          <a:ea typeface="標楷體"/>
                        </a:rPr>
                        <a:t>產權糾紛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ahoma"/>
                          <a:ea typeface="標楷體"/>
                        </a:rPr>
                        <a:t>判決確定之日起</a:t>
                      </a: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ahoma"/>
                          <a:ea typeface="標楷體"/>
                        </a:rPr>
                        <a:t>30</a:t>
                      </a: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ahoma"/>
                          <a:ea typeface="標楷體"/>
                        </a:rPr>
                        <a:t>日內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ahoma"/>
                          <a:ea typeface="標楷體"/>
                        </a:rPr>
                        <a:t>新建房屋由承受人取得使用執照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ahoma"/>
                          <a:ea typeface="標楷體"/>
                        </a:rPr>
                        <a:t>核發使用執照之日起</a:t>
                      </a: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ahoma"/>
                          <a:ea typeface="標楷體"/>
                        </a:rPr>
                        <a:t>60</a:t>
                      </a: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ahoma"/>
                          <a:ea typeface="標楷體"/>
                        </a:rPr>
                        <a:t>日內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ahoma"/>
                          <a:ea typeface="標楷體"/>
                        </a:rPr>
                        <a:t>向政府標購或領買公產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ahoma"/>
                          <a:ea typeface="標楷體"/>
                        </a:rPr>
                        <a:t>政府機關核發權利移轉證明書之日起</a:t>
                      </a: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ahoma"/>
                          <a:ea typeface="標楷體"/>
                        </a:rPr>
                        <a:t>30</a:t>
                      </a: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ahoma"/>
                          <a:ea typeface="標楷體"/>
                        </a:rPr>
                        <a:t>日內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1" name=""/>
          <p:cNvSpPr/>
          <p:nvPr/>
        </p:nvSpPr>
        <p:spPr>
          <a:xfrm>
            <a:off x="1079640" y="1800360"/>
            <a:ext cx="52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  <a:ea typeface="標楷體"/>
              </a:rPr>
              <a:t>三、申報期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2648160" y="914400"/>
            <a:ext cx="286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  <a:ea typeface="標楷體"/>
              </a:rPr>
              <a:t>娛樂稅法令及實務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1981080"/>
            <a:ext cx="914400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標楷體"/>
                <a:ea typeface="標楷體"/>
              </a:rPr>
              <a:t>一、</a:t>
            </a:r>
            <a:r>
              <a:rPr b="1" lang="en-US" sz="2800" spc="-1" strike="noStrike">
                <a:solidFill>
                  <a:srgbClr val="3333cc"/>
                </a:solidFill>
                <a:latin typeface="標楷體"/>
                <a:ea typeface="標楷體"/>
              </a:rPr>
              <a:t>課稅範圍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標楷體"/>
                <a:ea typeface="標楷體"/>
              </a:rPr>
              <a:t>    </a:t>
            </a:r>
            <a:r>
              <a:rPr b="1" lang="en-US" sz="2800" spc="-1" strike="noStrike">
                <a:solidFill>
                  <a:srgbClr val="3333cc"/>
                </a:solidFill>
                <a:latin typeface="標楷體"/>
                <a:ea typeface="標楷體"/>
              </a:rPr>
              <a:t>電影、職業性歌唱、舞蹈、音樂演奏、各種競技比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標楷體"/>
                <a:ea typeface="標楷體"/>
              </a:rPr>
              <a:t>    </a:t>
            </a:r>
            <a:r>
              <a:rPr b="1" lang="en-US" sz="2800" spc="-1" strike="noStrike">
                <a:solidFill>
                  <a:srgbClr val="3333cc"/>
                </a:solidFill>
                <a:latin typeface="標楷體"/>
                <a:ea typeface="標楷體"/>
              </a:rPr>
              <a:t>賽，高爾夫球場及其他提供娛樂設施供人娛樂者 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標楷體"/>
                <a:ea typeface="標楷體"/>
              </a:rPr>
              <a:t>二、納稅義務人：出價娛樂之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標楷體"/>
                <a:ea typeface="標楷體"/>
              </a:rPr>
              <a:t>三、課稅方式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標楷體"/>
                <a:ea typeface="標楷體"/>
              </a:rPr>
              <a:t>   </a:t>
            </a:r>
            <a:r>
              <a:rPr b="1" lang="en-US" sz="2800" spc="-1" strike="noStrike">
                <a:solidFill>
                  <a:srgbClr val="3333cc"/>
                </a:solidFill>
                <a:latin typeface="標楷體"/>
                <a:ea typeface="標楷體"/>
              </a:rPr>
              <a:t>自動報繳、查定課徵、臨時公演</a:t>
            </a:r>
            <a:r>
              <a:rPr b="1" lang="en-US" sz="2800" spc="-1" strike="noStrike">
                <a:solidFill>
                  <a:srgbClr val="3333cc"/>
                </a:solidFill>
                <a:latin typeface="標楷體"/>
                <a:ea typeface="標楷體"/>
              </a:rPr>
              <a:t>(</a:t>
            </a:r>
            <a:r>
              <a:rPr b="1" lang="en-US" sz="2800" spc="-1" strike="noStrike">
                <a:solidFill>
                  <a:srgbClr val="3333cc"/>
                </a:solidFill>
                <a:latin typeface="標楷體"/>
                <a:ea typeface="標楷體"/>
              </a:rPr>
              <a:t>有售門票或收費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標楷體"/>
                <a:ea typeface="標楷體"/>
              </a:rPr>
              <a:t>   </a:t>
            </a:r>
            <a:r>
              <a:rPr b="1" lang="en-US" sz="2800" spc="-1" strike="noStrike">
                <a:solidFill>
                  <a:srgbClr val="3333cc"/>
                </a:solidFill>
                <a:latin typeface="標楷體"/>
                <a:ea typeface="標楷體"/>
              </a:rPr>
              <a:t>向稅捐機關辦理門票驗印，無收費者亦應報備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3352680"/>
            <a:ext cx="2360520" cy="1513080"/>
          </a:xfrm>
          <a:custGeom>
            <a:avLst/>
            <a:gdLst>
              <a:gd name="textAreaLeft" fmla="*/ 0 w 2360520"/>
              <a:gd name="textAreaRight" fmla="*/ 2360880 w 2360520"/>
              <a:gd name="textAreaTop" fmla="*/ 0 h 1513080"/>
              <a:gd name="textAreaBottom" fmla="*/ 1513440 h 1513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981080" y="3276720"/>
            <a:ext cx="2514600" cy="1512720"/>
          </a:xfrm>
          <a:custGeom>
            <a:avLst/>
            <a:gdLst>
              <a:gd name="textAreaLeft" fmla="*/ 0 w 2514600"/>
              <a:gd name="textAreaRight" fmla="*/ 2514960 w 2514600"/>
              <a:gd name="textAreaTop" fmla="*/ 0 h 1512720"/>
              <a:gd name="textAreaBottom" fmla="*/ 1513080 h 151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191120" y="3276720"/>
            <a:ext cx="2360520" cy="1512720"/>
          </a:xfrm>
          <a:custGeom>
            <a:avLst/>
            <a:gdLst>
              <a:gd name="textAreaLeft" fmla="*/ 0 w 2360520"/>
              <a:gd name="textAreaRight" fmla="*/ 2360880 w 2360520"/>
              <a:gd name="textAreaTop" fmla="*/ 0 h 1512720"/>
              <a:gd name="textAreaBottom" fmla="*/ 1513080 h 151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172200" y="3276720"/>
            <a:ext cx="2360520" cy="1512720"/>
          </a:xfrm>
          <a:custGeom>
            <a:avLst/>
            <a:gdLst>
              <a:gd name="textAreaLeft" fmla="*/ 0 w 2360520"/>
              <a:gd name="textAreaRight" fmla="*/ 2360880 w 2360520"/>
              <a:gd name="textAreaTop" fmla="*/ 0 h 1512720"/>
              <a:gd name="textAreaBottom" fmla="*/ 1513080 h 151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33520" y="3048120"/>
            <a:ext cx="1371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33520" y="342900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標楷體"/>
              </a:rPr>
              <a:t>請領戶籍謄本及印鑑證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243828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  <a:ea typeface="標楷體"/>
              </a:rPr>
              <a:t>戶政事務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209680" y="2438280"/>
            <a:ext cx="12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  <a:ea typeface="標楷體"/>
              </a:rPr>
              <a:t>稅務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1120" y="243828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  <a:ea typeface="標楷體"/>
              </a:rPr>
              <a:t>鄉鎮公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7120" y="243828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  <a:ea typeface="標楷體"/>
              </a:rPr>
              <a:t>地政事務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514600" y="3276720"/>
            <a:ext cx="1447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標楷體"/>
              </a:rPr>
              <a:t>土地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標楷體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標楷體"/>
              </a:rPr>
              <a:t>申報土地增值稅及地價稅查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724280" y="3429000"/>
            <a:ext cx="1524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標楷體"/>
              </a:rPr>
              <a:t>建物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標楷體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標楷體"/>
              </a:rPr>
              <a:t>申報契稅及房屋稅查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781680" y="3429000"/>
            <a:ext cx="129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標楷體"/>
              </a:rPr>
              <a:t>辦理產權移轉登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219320" y="914400"/>
            <a:ext cx="7238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標楷體"/>
                <a:ea typeface="標楷體"/>
              </a:rPr>
              <a:t>土地建物【買賣】案件流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57200" y="4876920"/>
            <a:ext cx="792468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  <a:ea typeface="標楷體"/>
              </a:rPr>
              <a:t>應備證件</a:t>
            </a:r>
            <a:r>
              <a:rPr b="1" lang="en-US" sz="2800" spc="-1" strike="noStrike">
                <a:solidFill>
                  <a:srgbClr val="0000cc"/>
                </a:solidFill>
                <a:latin typeface="Tahoma"/>
                <a:ea typeface="標楷體"/>
              </a:rPr>
              <a:t>：土地登記申請書、公定契約書、買賣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ahoma"/>
                <a:ea typeface="標楷體"/>
              </a:rPr>
              <a:t>         </a:t>
            </a:r>
            <a:r>
              <a:rPr b="1" lang="en-US" sz="2800" spc="-1" strike="noStrike">
                <a:solidFill>
                  <a:srgbClr val="0000cc"/>
                </a:solidFill>
                <a:latin typeface="Tahoma"/>
                <a:ea typeface="標楷體"/>
              </a:rPr>
              <a:t>雙方身分證明、賣方印鑑證明，土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ahoma"/>
                <a:ea typeface="標楷體"/>
              </a:rPr>
              <a:t>         </a:t>
            </a:r>
            <a:r>
              <a:rPr b="1" lang="en-US" sz="2800" spc="-1" strike="noStrike">
                <a:solidFill>
                  <a:srgbClr val="0000cc"/>
                </a:solidFill>
                <a:latin typeface="Tahoma"/>
                <a:ea typeface="標楷體"/>
              </a:rPr>
              <a:t>建物所有權狀、繳費收據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dur="indefinite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dur="indefinite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dur="indefinite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dur="indefinite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219320" y="914400"/>
            <a:ext cx="7238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標楷體"/>
                <a:ea typeface="標楷體"/>
              </a:rPr>
              <a:t>土地建物【繼承】案件流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198108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  <a:ea typeface="標楷體"/>
              </a:rPr>
              <a:t>戶政事務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209680" y="1981080"/>
            <a:ext cx="12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  <a:ea typeface="標楷體"/>
              </a:rPr>
              <a:t>國稅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114800" y="198108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  <a:ea typeface="標楷體"/>
              </a:rPr>
              <a:t>稅務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400800" y="198108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  <a:ea typeface="標楷體"/>
              </a:rPr>
              <a:t>地政事務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2590920"/>
            <a:ext cx="2360520" cy="1512720"/>
          </a:xfrm>
          <a:custGeom>
            <a:avLst/>
            <a:gdLst>
              <a:gd name="textAreaLeft" fmla="*/ 0 w 2360520"/>
              <a:gd name="textAreaRight" fmla="*/ 2360880 w 2360520"/>
              <a:gd name="textAreaTop" fmla="*/ 0 h 1512720"/>
              <a:gd name="textAreaBottom" fmla="*/ 1513080 h 151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886200" y="2590920"/>
            <a:ext cx="2360520" cy="1512720"/>
          </a:xfrm>
          <a:custGeom>
            <a:avLst/>
            <a:gdLst>
              <a:gd name="textAreaLeft" fmla="*/ 0 w 2360520"/>
              <a:gd name="textAreaRight" fmla="*/ 2360880 w 2360520"/>
              <a:gd name="textAreaTop" fmla="*/ 0 h 1512720"/>
              <a:gd name="textAreaBottom" fmla="*/ 1513080 h 151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981080" y="2590920"/>
            <a:ext cx="2360880" cy="1512720"/>
          </a:xfrm>
          <a:custGeom>
            <a:avLst/>
            <a:gdLst>
              <a:gd name="textAreaLeft" fmla="*/ 0 w 2360880"/>
              <a:gd name="textAreaRight" fmla="*/ 2361240 w 2360880"/>
              <a:gd name="textAreaTop" fmla="*/ 0 h 1512720"/>
              <a:gd name="textAreaBottom" fmla="*/ 1513080 h 151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43600" y="2590920"/>
            <a:ext cx="2360520" cy="1512720"/>
          </a:xfrm>
          <a:custGeom>
            <a:avLst/>
            <a:gdLst>
              <a:gd name="textAreaLeft" fmla="*/ 0 w 2360520"/>
              <a:gd name="textAreaRight" fmla="*/ 2360880 w 2360520"/>
              <a:gd name="textAreaTop" fmla="*/ 0 h 1512720"/>
              <a:gd name="textAreaBottom" fmla="*/ 1513080 h 151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33520" y="274320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標楷體"/>
              </a:rPr>
              <a:t>請領戶籍謄本及印鑑證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666880" y="2819520"/>
            <a:ext cx="1143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標楷體"/>
              </a:rPr>
              <a:t>遺產稅 申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343400" y="2590920"/>
            <a:ext cx="1600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標楷體"/>
              </a:rPr>
              <a:t>地價房屋查欠。房屋納稅人名義變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629400" y="2895480"/>
            <a:ext cx="121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標楷體"/>
              </a:rPr>
              <a:t>辦理產權登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09480" y="4648320"/>
            <a:ext cx="74678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80880" y="4419720"/>
            <a:ext cx="792504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  <a:ea typeface="標楷體"/>
              </a:rPr>
              <a:t>應備證件</a:t>
            </a:r>
            <a:r>
              <a:rPr b="1" lang="en-US" sz="2800" spc="-1" strike="noStrike">
                <a:solidFill>
                  <a:srgbClr val="0000cc"/>
                </a:solidFill>
                <a:latin typeface="Tahoma"/>
                <a:ea typeface="標楷體"/>
              </a:rPr>
              <a:t>：土地登記申請書及登記清冊、繼承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ahoma"/>
                <a:ea typeface="標楷體"/>
              </a:rPr>
              <a:t>          </a:t>
            </a:r>
            <a:r>
              <a:rPr b="1" lang="en-US" sz="2800" spc="-1" strike="noStrike">
                <a:solidFill>
                  <a:srgbClr val="0000cc"/>
                </a:solidFill>
                <a:latin typeface="Tahoma"/>
                <a:ea typeface="標楷體"/>
              </a:rPr>
              <a:t>統表、被繼承人除戶謄本及全體繼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ahoma"/>
                <a:ea typeface="標楷體"/>
              </a:rPr>
              <a:t>          </a:t>
            </a:r>
            <a:r>
              <a:rPr b="1" lang="en-US" sz="2800" spc="-1" strike="noStrike">
                <a:solidFill>
                  <a:srgbClr val="0000cc"/>
                </a:solidFill>
                <a:latin typeface="Tahoma"/>
                <a:ea typeface="標楷體"/>
              </a:rPr>
              <a:t>人現戶謄本、全體繼承人印鑑證明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ahoma"/>
                <a:ea typeface="標楷體"/>
              </a:rPr>
              <a:t>          </a:t>
            </a:r>
            <a:r>
              <a:rPr b="1" lang="en-US" sz="2800" spc="-1" strike="noStrike">
                <a:solidFill>
                  <a:srgbClr val="0000cc"/>
                </a:solidFill>
                <a:latin typeface="Tahoma"/>
                <a:ea typeface="標楷體"/>
              </a:rPr>
              <a:t>土地 建物所有權狀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dur="indefinite" fill="hold">
                      <p:stCondLst>
                        <p:cond delay="0"/>
                      </p:stCondLst>
                      <p:childTnLst>
                        <p:par>
                          <p:cTn id="2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dur="indefinite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dur="indefinite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dur="indefinite" fill="hold">
                            <p:stCondLst>
                              <p:cond delay="1500"/>
                            </p:stCondLst>
                            <p:childTnLst>
                              <p:par>
                                <p:cTn id="43" dur="indefinite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1219320" y="914400"/>
            <a:ext cx="7238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標楷體"/>
                <a:ea typeface="標楷體"/>
              </a:rPr>
              <a:t>土地建物【拍賣】案件流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57200" y="205740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  <a:ea typeface="標楷體"/>
              </a:rPr>
              <a:t>稅務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971800" y="198108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  <a:ea typeface="標楷體"/>
              </a:rPr>
              <a:t>鄉鎮公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791320" y="198108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  <a:ea typeface="標楷體"/>
              </a:rPr>
              <a:t>地政事務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2666880"/>
            <a:ext cx="2666880" cy="1513080"/>
          </a:xfrm>
          <a:custGeom>
            <a:avLst/>
            <a:gdLst>
              <a:gd name="textAreaLeft" fmla="*/ 0 w 2666880"/>
              <a:gd name="textAreaRight" fmla="*/ 2666880 w 2666880"/>
              <a:gd name="textAreaTop" fmla="*/ 0 h 1513080"/>
              <a:gd name="textAreaBottom" fmla="*/ 1513440 h 1513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666880" y="2666880"/>
            <a:ext cx="2667240" cy="151308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513080"/>
              <a:gd name="textAreaBottom" fmla="*/ 1513440 h 1513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638680" y="2666880"/>
            <a:ext cx="2743200" cy="1513080"/>
          </a:xfrm>
          <a:custGeom>
            <a:avLst/>
            <a:gdLst>
              <a:gd name="textAreaLeft" fmla="*/ 0 w 2743200"/>
              <a:gd name="textAreaRight" fmla="*/ 2743560 w 2743200"/>
              <a:gd name="textAreaTop" fmla="*/ 0 h 1513080"/>
              <a:gd name="textAreaBottom" fmla="*/ 1513440 h 1513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33520" y="3124080"/>
            <a:ext cx="2057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標楷體"/>
              </a:rPr>
              <a:t>土地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標楷體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標楷體"/>
              </a:rPr>
              <a:t>查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標楷體"/>
              </a:rPr>
              <a:t>工程受益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352680" y="3048120"/>
            <a:ext cx="167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標楷體"/>
              </a:rPr>
              <a:t>建物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標楷體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標楷體"/>
              </a:rPr>
              <a:t>申報 契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553080" y="3200400"/>
            <a:ext cx="121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標楷體"/>
              </a:rPr>
              <a:t>辦理產權登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" y="4191120"/>
            <a:ext cx="807732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  <a:ea typeface="標楷體"/>
              </a:rPr>
              <a:t>應備證件</a:t>
            </a:r>
            <a:r>
              <a:rPr b="1" lang="en-US" sz="2800" spc="-1" strike="noStrike">
                <a:solidFill>
                  <a:srgbClr val="0000cc"/>
                </a:solidFill>
                <a:latin typeface="Tahoma"/>
                <a:ea typeface="標楷體"/>
              </a:rPr>
              <a:t>：土地登記申請書、登記清冊及契稅申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ahoma"/>
                <a:ea typeface="標楷體"/>
              </a:rPr>
              <a:t>         </a:t>
            </a:r>
            <a:r>
              <a:rPr b="1" lang="en-US" sz="2800" spc="-1" strike="noStrike">
                <a:solidFill>
                  <a:srgbClr val="0000cc"/>
                </a:solidFill>
                <a:latin typeface="Tahoma"/>
                <a:ea typeface="標楷體"/>
              </a:rPr>
              <a:t>報書、申請人身分證明、法院核發不動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ahoma"/>
                <a:ea typeface="標楷體"/>
              </a:rPr>
              <a:t>         </a:t>
            </a:r>
            <a:r>
              <a:rPr b="1" lang="en-US" sz="2800" spc="-1" strike="noStrike">
                <a:solidFill>
                  <a:srgbClr val="0000cc"/>
                </a:solidFill>
                <a:latin typeface="Tahoma"/>
                <a:ea typeface="標楷體"/>
              </a:rPr>
              <a:t>產權利移轉證書，建物登記謄本、房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ahoma"/>
                <a:ea typeface="標楷體"/>
              </a:rPr>
              <a:t>         </a:t>
            </a:r>
            <a:r>
              <a:rPr b="1" lang="en-US" sz="2800" spc="-1" strike="noStrike">
                <a:solidFill>
                  <a:srgbClr val="0000cc"/>
                </a:solidFill>
                <a:latin typeface="Tahoma"/>
                <a:ea typeface="標楷體"/>
              </a:rPr>
              <a:t>稅籍證明、繳費收據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dur="indefinite" fill="hold">
                      <p:stCondLst>
                        <p:cond delay="0"/>
                      </p:stCondLst>
                      <p:childTnLst>
                        <p:par>
                          <p:cTn id="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dur="indefinite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61" dur="indefinite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212400"/>
            <a:ext cx="779292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5400" spc="-1" strike="noStrike">
                <a:solidFill>
                  <a:srgbClr val="333399"/>
                </a:solidFill>
                <a:latin typeface="Tahoma"/>
                <a:ea typeface="標楷體"/>
              </a:rPr>
              <a:t>土地增值稅法令及實務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0" y="1905120"/>
            <a:ext cx="9144000" cy="53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2500" spc="-1" strike="noStrike">
                <a:solidFill>
                  <a:srgbClr val="3333cc"/>
                </a:solidFill>
                <a:latin typeface="Tahoma"/>
                <a:ea typeface="標楷體"/>
              </a:rPr>
              <a:t>土地所有權於移轉時，按土地漲價總數額採</a:t>
            </a:r>
            <a:r>
              <a:rPr b="1" lang="en-US" sz="2500" spc="-1" strike="noStrike">
                <a:solidFill>
                  <a:srgbClr val="ff0000"/>
                </a:solidFill>
                <a:latin typeface="Tahoma"/>
                <a:ea typeface="標楷體"/>
              </a:rPr>
              <a:t>倍數累進課稅。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412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Tahoma"/>
                <a:ea typeface="標楷體"/>
              </a:rPr>
              <a:t>納稅義務人：有償移轉</a:t>
            </a:r>
            <a:r>
              <a:rPr b="1" lang="en-US" sz="2600" spc="-1" strike="noStrike">
                <a:solidFill>
                  <a:srgbClr val="3333cc"/>
                </a:solidFill>
                <a:latin typeface="Tahoma"/>
                <a:ea typeface="標楷體"/>
              </a:rPr>
              <a:t>-----</a:t>
            </a:r>
            <a:r>
              <a:rPr b="1" lang="en-US" sz="2600" spc="-1" strike="noStrike">
                <a:solidFill>
                  <a:srgbClr val="3333cc"/>
                </a:solidFill>
                <a:latin typeface="Tahoma"/>
                <a:ea typeface="標楷體"/>
              </a:rPr>
              <a:t>原所有權人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12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Tahoma"/>
                <a:ea typeface="標楷體"/>
              </a:rPr>
              <a:t>                       </a:t>
            </a:r>
            <a:r>
              <a:rPr b="1" lang="en-US" sz="2600" spc="-1" strike="noStrike">
                <a:solidFill>
                  <a:srgbClr val="3333cc"/>
                </a:solidFill>
                <a:latin typeface="Tahoma"/>
                <a:ea typeface="標楷體"/>
              </a:rPr>
              <a:t>無償移轉</a:t>
            </a:r>
            <a:r>
              <a:rPr b="1" lang="en-US" sz="2600" spc="-1" strike="noStrike">
                <a:solidFill>
                  <a:srgbClr val="3333cc"/>
                </a:solidFill>
                <a:latin typeface="Tahoma"/>
                <a:ea typeface="標楷體"/>
              </a:rPr>
              <a:t>-----</a:t>
            </a:r>
            <a:r>
              <a:rPr b="1" lang="en-US" sz="2600" spc="-1" strike="noStrike">
                <a:solidFill>
                  <a:srgbClr val="3333cc"/>
                </a:solidFill>
                <a:latin typeface="Tahoma"/>
                <a:ea typeface="標楷體"/>
              </a:rPr>
              <a:t>取得所有權人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12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Tahoma"/>
                <a:ea typeface="標楷體"/>
              </a:rPr>
              <a:t>                       </a:t>
            </a:r>
            <a:r>
              <a:rPr b="1" lang="en-US" sz="2600" spc="-1" strike="noStrike">
                <a:solidFill>
                  <a:srgbClr val="3333cc"/>
                </a:solidFill>
                <a:latin typeface="Tahoma"/>
                <a:ea typeface="標楷體"/>
              </a:rPr>
              <a:t>設定典權</a:t>
            </a:r>
            <a:r>
              <a:rPr b="1" lang="en-US" sz="2600" spc="-1" strike="noStrike">
                <a:solidFill>
                  <a:srgbClr val="3333cc"/>
                </a:solidFill>
                <a:latin typeface="Tahoma"/>
                <a:ea typeface="標楷體"/>
              </a:rPr>
              <a:t>-----</a:t>
            </a:r>
            <a:r>
              <a:rPr b="1" lang="en-US" sz="2600" spc="-1" strike="noStrike">
                <a:solidFill>
                  <a:srgbClr val="3333cc"/>
                </a:solidFill>
                <a:latin typeface="Tahoma"/>
                <a:ea typeface="標楷體"/>
              </a:rPr>
              <a:t>出典人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Tahoma"/>
                <a:ea typeface="標楷體"/>
              </a:rPr>
              <a:t>稅率：</a:t>
            </a:r>
            <a:r>
              <a:rPr b="1" lang="en-US" sz="2600" spc="-1" strike="noStrike">
                <a:solidFill>
                  <a:srgbClr val="ff0000"/>
                </a:solidFill>
                <a:latin typeface="Tahoma"/>
                <a:ea typeface="標楷體"/>
              </a:rPr>
              <a:t>10</a:t>
            </a:r>
            <a:r>
              <a:rPr b="1" lang="en-US" sz="2600" spc="-1" strike="noStrike">
                <a:solidFill>
                  <a:srgbClr val="ff0000"/>
                </a:solidFill>
                <a:latin typeface="Tahoma"/>
                <a:ea typeface="標楷體"/>
              </a:rPr>
              <a:t>％（自用住宅用地）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12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Tahoma"/>
                <a:ea typeface="標楷體"/>
              </a:rPr>
              <a:t>漲價總數額超過原規定地價或前次移轉現</a:t>
            </a:r>
            <a:r>
              <a:rPr b="1" lang="en-US" sz="2600" spc="-1" strike="noStrike">
                <a:solidFill>
                  <a:srgbClr val="3333cc"/>
                </a:solidFill>
                <a:latin typeface="Tahoma"/>
                <a:ea typeface="標楷體"/>
              </a:rPr>
              <a:t>(</a:t>
            </a:r>
            <a:r>
              <a:rPr b="1" lang="en-US" sz="2600" spc="-1" strike="noStrike">
                <a:solidFill>
                  <a:srgbClr val="3333cc"/>
                </a:solidFill>
                <a:latin typeface="Tahoma"/>
                <a:ea typeface="標楷體"/>
              </a:rPr>
              <a:t>物價指數調整後</a:t>
            </a:r>
            <a:r>
              <a:rPr b="1" lang="en-US" sz="2600" spc="-1" strike="noStrike">
                <a:solidFill>
                  <a:srgbClr val="3333cc"/>
                </a:solidFill>
                <a:latin typeface="Tahoma"/>
                <a:ea typeface="標楷體"/>
              </a:rPr>
              <a:t>)</a:t>
            </a:r>
            <a:r>
              <a:rPr b="1" lang="en-US" sz="2600" spc="-1" strike="noStrike">
                <a:solidFill>
                  <a:srgbClr val="3333cc"/>
                </a:solidFill>
                <a:latin typeface="Tahoma"/>
                <a:ea typeface="標楷體"/>
              </a:rPr>
              <a:t>未逹</a:t>
            </a:r>
            <a:r>
              <a:rPr b="1" lang="en-US" sz="2600" spc="-1" strike="noStrike">
                <a:solidFill>
                  <a:srgbClr val="3333cc"/>
                </a:solidFill>
                <a:latin typeface="Tahoma"/>
                <a:ea typeface="標楷體"/>
              </a:rPr>
              <a:t>1</a:t>
            </a:r>
            <a:r>
              <a:rPr b="1" lang="en-US" sz="2600" spc="-1" strike="noStrike">
                <a:solidFill>
                  <a:srgbClr val="3333cc"/>
                </a:solidFill>
                <a:latin typeface="Tahoma"/>
                <a:ea typeface="標楷體"/>
              </a:rPr>
              <a:t>倍稅率</a:t>
            </a:r>
            <a:r>
              <a:rPr b="1" lang="en-US" sz="2600" spc="-1" strike="noStrike">
                <a:solidFill>
                  <a:srgbClr val="ff0000"/>
                </a:solidFill>
                <a:latin typeface="Tahoma"/>
                <a:ea typeface="標楷體"/>
              </a:rPr>
              <a:t>20%</a:t>
            </a:r>
            <a:r>
              <a:rPr b="1" lang="en-US" sz="2600" spc="-1" strike="noStrike">
                <a:solidFill>
                  <a:srgbClr val="3333cc"/>
                </a:solidFill>
                <a:latin typeface="Tahoma"/>
                <a:ea typeface="標楷體"/>
              </a:rPr>
              <a:t>、</a:t>
            </a:r>
            <a:r>
              <a:rPr b="1" lang="en-US" sz="2600" spc="-1" strike="noStrike">
                <a:solidFill>
                  <a:srgbClr val="3333cc"/>
                </a:solidFill>
                <a:latin typeface="Tahoma"/>
                <a:ea typeface="標楷體"/>
              </a:rPr>
              <a:t>1</a:t>
            </a:r>
            <a:r>
              <a:rPr b="1" lang="en-US" sz="2600" spc="-1" strike="noStrike">
                <a:solidFill>
                  <a:srgbClr val="3333cc"/>
                </a:solidFill>
                <a:latin typeface="Tahoma"/>
                <a:ea typeface="標楷體"/>
              </a:rPr>
              <a:t>至</a:t>
            </a:r>
            <a:r>
              <a:rPr b="1" lang="en-US" sz="2600" spc="-1" strike="noStrike">
                <a:solidFill>
                  <a:srgbClr val="3333cc"/>
                </a:solidFill>
                <a:latin typeface="Tahoma"/>
                <a:ea typeface="標楷體"/>
              </a:rPr>
              <a:t>2</a:t>
            </a:r>
            <a:r>
              <a:rPr b="1" lang="en-US" sz="2600" spc="-1" strike="noStrike">
                <a:solidFill>
                  <a:srgbClr val="3333cc"/>
                </a:solidFill>
                <a:latin typeface="Tahoma"/>
                <a:ea typeface="標楷體"/>
              </a:rPr>
              <a:t>倍稅率</a:t>
            </a:r>
            <a:r>
              <a:rPr b="1" lang="en-US" sz="2600" spc="-1" strike="noStrike">
                <a:solidFill>
                  <a:srgbClr val="ff0000"/>
                </a:solidFill>
                <a:latin typeface="Tahoma"/>
                <a:ea typeface="標楷體"/>
              </a:rPr>
              <a:t>30%</a:t>
            </a:r>
            <a:r>
              <a:rPr b="1" lang="en-US" sz="2600" spc="-1" strike="noStrike">
                <a:solidFill>
                  <a:srgbClr val="3333cc"/>
                </a:solidFill>
                <a:latin typeface="Tahoma"/>
                <a:ea typeface="標楷體"/>
              </a:rPr>
              <a:t>、 </a:t>
            </a:r>
            <a:r>
              <a:rPr b="1" lang="en-US" sz="2600" spc="-1" strike="noStrike">
                <a:solidFill>
                  <a:srgbClr val="3333cc"/>
                </a:solidFill>
                <a:latin typeface="Tahoma"/>
                <a:ea typeface="標楷體"/>
              </a:rPr>
              <a:t>2</a:t>
            </a:r>
            <a:r>
              <a:rPr b="1" lang="en-US" sz="2600" spc="-1" strike="noStrike">
                <a:solidFill>
                  <a:srgbClr val="3333cc"/>
                </a:solidFill>
                <a:latin typeface="Tahoma"/>
                <a:ea typeface="標楷體"/>
              </a:rPr>
              <a:t>倍以上稅率</a:t>
            </a:r>
            <a:r>
              <a:rPr b="1" lang="en-US" sz="2600" spc="-1" strike="noStrike">
                <a:solidFill>
                  <a:srgbClr val="ff0000"/>
                </a:solidFill>
                <a:latin typeface="Tahoma"/>
                <a:ea typeface="標楷體"/>
              </a:rPr>
              <a:t>40%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12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Tahoma"/>
                <a:ea typeface="標楷體"/>
              </a:rPr>
              <a:t>申報期限：訂定契約後</a:t>
            </a:r>
            <a:r>
              <a:rPr b="1" lang="en-US" sz="2600" spc="-1" strike="noStrike">
                <a:solidFill>
                  <a:srgbClr val="3333cc"/>
                </a:solidFill>
                <a:latin typeface="Tahoma"/>
                <a:ea typeface="標楷體"/>
              </a:rPr>
              <a:t>30</a:t>
            </a:r>
            <a:r>
              <a:rPr b="1" lang="en-US" sz="2600" spc="-1" strike="noStrike">
                <a:solidFill>
                  <a:srgbClr val="3333cc"/>
                </a:solidFill>
                <a:latin typeface="Tahoma"/>
                <a:ea typeface="標楷體"/>
              </a:rPr>
              <a:t>日內，逾期申報者，以收件日當期公告現值為移轉現值。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12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Tahoma"/>
                <a:ea typeface="標楷體"/>
              </a:rPr>
              <a:t>                   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2592360" y="838080"/>
            <a:ext cx="4295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5400" spc="-1" strike="noStrike">
                <a:solidFill>
                  <a:srgbClr val="333399"/>
                </a:solidFill>
                <a:latin typeface="Tahoma"/>
                <a:ea typeface="標楷體"/>
              </a:rPr>
              <a:t>土地增值稅法令及實務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57200" y="1981080"/>
            <a:ext cx="822960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11080" indent="-811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811080"/>
                <a:tab algn="l" pos="1725480"/>
                <a:tab algn="l" pos="2639880"/>
                <a:tab algn="l" pos="3554280"/>
                <a:tab algn="l" pos="4468680"/>
                <a:tab algn="l" pos="5383080"/>
                <a:tab algn="l" pos="6297480"/>
                <a:tab algn="l" pos="7211880"/>
                <a:tab algn="l" pos="8126280"/>
                <a:tab algn="l" pos="9040680"/>
                <a:tab algn="l" pos="9955080"/>
                <a:tab algn="l" pos="1086948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ahoma"/>
                <a:ea typeface="標楷體"/>
              </a:rPr>
              <a:t>免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811080" indent="-811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811080"/>
                <a:tab algn="l" pos="1725480"/>
                <a:tab algn="l" pos="2639880"/>
                <a:tab algn="l" pos="3554280"/>
                <a:tab algn="l" pos="4468680"/>
                <a:tab algn="l" pos="5383080"/>
                <a:tab algn="l" pos="6297480"/>
                <a:tab algn="l" pos="7211880"/>
                <a:tab algn="l" pos="8126280"/>
                <a:tab algn="l" pos="9040680"/>
                <a:tab algn="l" pos="9955080"/>
                <a:tab algn="l" pos="1086948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標楷體"/>
              </a:rPr>
              <a:t>◎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標楷體"/>
              </a:rPr>
              <a:t>各級政府出售或依法贈與之公有土地及受贈之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1080" indent="-811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811080"/>
                <a:tab algn="l" pos="1725480"/>
                <a:tab algn="l" pos="2639880"/>
                <a:tab algn="l" pos="3554280"/>
                <a:tab algn="l" pos="4468680"/>
                <a:tab algn="l" pos="5383080"/>
                <a:tab algn="l" pos="6297480"/>
                <a:tab algn="l" pos="7211880"/>
                <a:tab algn="l" pos="8126280"/>
                <a:tab algn="l" pos="9040680"/>
                <a:tab algn="l" pos="9955080"/>
                <a:tab algn="l" pos="1086948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標楷體"/>
              </a:rPr>
              <a:t>   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標楷體"/>
              </a:rPr>
              <a:t>有土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1080" indent="-811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811080"/>
                <a:tab algn="l" pos="1725480"/>
                <a:tab algn="l" pos="2639880"/>
                <a:tab algn="l" pos="3554280"/>
                <a:tab algn="l" pos="4468680"/>
                <a:tab algn="l" pos="5383080"/>
                <a:tab algn="l" pos="6297480"/>
                <a:tab algn="l" pos="7211880"/>
                <a:tab algn="l" pos="8126280"/>
                <a:tab algn="l" pos="9040680"/>
                <a:tab algn="l" pos="9955080"/>
                <a:tab algn="l" pos="1086948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標楷體"/>
              </a:rPr>
              <a:t>◎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標楷體"/>
              </a:rPr>
              <a:t>因繼承而移轉之土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1080" indent="-811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811080"/>
                <a:tab algn="l" pos="1725480"/>
                <a:tab algn="l" pos="2639880"/>
                <a:tab algn="l" pos="3554280"/>
                <a:tab algn="l" pos="4468680"/>
                <a:tab algn="l" pos="5383080"/>
                <a:tab algn="l" pos="6297480"/>
                <a:tab algn="l" pos="7211880"/>
                <a:tab algn="l" pos="8126280"/>
                <a:tab algn="l" pos="9040680"/>
                <a:tab algn="l" pos="9955080"/>
                <a:tab algn="l" pos="1086948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標楷體"/>
              </a:rPr>
              <a:t>◎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標楷體"/>
              </a:rPr>
              <a:t>私人捐贈供興辦社福或私校使用之土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1080" indent="-811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811080"/>
                <a:tab algn="l" pos="1725480"/>
                <a:tab algn="l" pos="2639880"/>
                <a:tab algn="l" pos="3554280"/>
                <a:tab algn="l" pos="4468680"/>
                <a:tab algn="l" pos="5383080"/>
                <a:tab algn="l" pos="6297480"/>
                <a:tab algn="l" pos="7211880"/>
                <a:tab algn="l" pos="8126280"/>
                <a:tab algn="l" pos="9040680"/>
                <a:tab algn="l" pos="9955080"/>
                <a:tab algn="l" pos="1086948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標楷體"/>
              </a:rPr>
              <a:t>◎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標楷體"/>
              </a:rPr>
              <a:t>被徵收之土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1080" indent="-811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811080"/>
                <a:tab algn="l" pos="1725480"/>
                <a:tab algn="l" pos="2639880"/>
                <a:tab algn="l" pos="3554280"/>
                <a:tab algn="l" pos="4468680"/>
                <a:tab algn="l" pos="5383080"/>
                <a:tab algn="l" pos="6297480"/>
                <a:tab algn="l" pos="7211880"/>
                <a:tab algn="l" pos="8126280"/>
                <a:tab algn="l" pos="9040680"/>
                <a:tab algn="l" pos="9955080"/>
                <a:tab algn="l" pos="1086948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標楷體"/>
              </a:rPr>
              <a:t>◎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標楷體"/>
              </a:rPr>
              <a:t>公共設施保留地尚未被徵收前移轉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1080" indent="-811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811080"/>
                <a:tab algn="l" pos="1725480"/>
                <a:tab algn="l" pos="2639880"/>
                <a:tab algn="l" pos="3554280"/>
                <a:tab algn="l" pos="4468680"/>
                <a:tab algn="l" pos="5383080"/>
                <a:tab algn="l" pos="6297480"/>
                <a:tab algn="l" pos="7211880"/>
                <a:tab algn="l" pos="8126280"/>
                <a:tab algn="l" pos="9040680"/>
                <a:tab algn="l" pos="9955080"/>
                <a:tab algn="l" pos="1086948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標楷體"/>
              </a:rPr>
              <a:t>◎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標楷體"/>
              </a:rPr>
              <a:t>依法得徵收之私有土地，所有權人自願按徵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1080" indent="-811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811080"/>
                <a:tab algn="l" pos="1725480"/>
                <a:tab algn="l" pos="2639880"/>
                <a:tab algn="l" pos="3554280"/>
                <a:tab algn="l" pos="4468680"/>
                <a:tab algn="l" pos="5383080"/>
                <a:tab algn="l" pos="6297480"/>
                <a:tab algn="l" pos="7211880"/>
                <a:tab algn="l" pos="8126280"/>
                <a:tab algn="l" pos="9040680"/>
                <a:tab algn="l" pos="9955080"/>
                <a:tab algn="l" pos="1086948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標楷體"/>
              </a:rPr>
              <a:t>   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標楷體"/>
              </a:rPr>
              <a:t>補償地價售與需地機關者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1080" indent="-811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811080"/>
                <a:tab algn="l" pos="1725480"/>
                <a:tab algn="l" pos="2639880"/>
                <a:tab algn="l" pos="3554280"/>
                <a:tab algn="l" pos="4468680"/>
                <a:tab algn="l" pos="5383080"/>
                <a:tab algn="l" pos="6297480"/>
                <a:tab algn="l" pos="7211880"/>
                <a:tab algn="l" pos="8126280"/>
                <a:tab algn="l" pos="9040680"/>
                <a:tab algn="l" pos="9955080"/>
                <a:tab algn="l" pos="108694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1080" indent="-811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811080"/>
                <a:tab algn="l" pos="1725480"/>
                <a:tab algn="l" pos="2639880"/>
                <a:tab algn="l" pos="3554280"/>
                <a:tab algn="l" pos="4468680"/>
                <a:tab algn="l" pos="5383080"/>
                <a:tab algn="l" pos="6297480"/>
                <a:tab algn="l" pos="7211880"/>
                <a:tab algn="l" pos="8126280"/>
                <a:tab algn="l" pos="9040680"/>
                <a:tab algn="l" pos="9955080"/>
                <a:tab algn="l" pos="108694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2516040" y="762120"/>
            <a:ext cx="4295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5400" spc="-1" strike="noStrike">
                <a:solidFill>
                  <a:srgbClr val="333399"/>
                </a:solidFill>
                <a:latin typeface="Tahoma"/>
                <a:ea typeface="標楷體"/>
              </a:rPr>
              <a:t>土地增值稅法令及實務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52280" y="1800360"/>
            <a:ext cx="8847360" cy="42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11080" indent="-811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811080"/>
                <a:tab algn="l" pos="1725480"/>
                <a:tab algn="l" pos="2639880"/>
                <a:tab algn="l" pos="3554280"/>
                <a:tab algn="l" pos="4468680"/>
                <a:tab algn="l" pos="5383080"/>
                <a:tab algn="l" pos="6297480"/>
                <a:tab algn="l" pos="7211880"/>
                <a:tab algn="l" pos="8126280"/>
                <a:tab algn="l" pos="9040680"/>
                <a:tab algn="l" pos="9955080"/>
                <a:tab algn="l" pos="1086948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ahoma"/>
                <a:ea typeface="標楷體"/>
              </a:rPr>
              <a:t>不課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811080" indent="-811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811080"/>
                <a:tab algn="l" pos="1725480"/>
                <a:tab algn="l" pos="2639880"/>
                <a:tab algn="l" pos="3554280"/>
                <a:tab algn="l" pos="4468680"/>
                <a:tab algn="l" pos="5383080"/>
                <a:tab algn="l" pos="6297480"/>
                <a:tab algn="l" pos="7211880"/>
                <a:tab algn="l" pos="8126280"/>
                <a:tab algn="l" pos="9040680"/>
                <a:tab algn="l" pos="9955080"/>
                <a:tab algn="l" pos="1086948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Tahoma"/>
                <a:ea typeface="標楷體"/>
              </a:rPr>
              <a:t>◎</a:t>
            </a:r>
            <a:r>
              <a:rPr b="1" lang="en-US" sz="2600" spc="-1" strike="noStrike">
                <a:solidFill>
                  <a:srgbClr val="3333cc"/>
                </a:solidFill>
                <a:latin typeface="Tahoma"/>
                <a:ea typeface="標楷體"/>
              </a:rPr>
              <a:t>配偶相互贈與之土地，得申請不課徵土地增值稅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811080" indent="-811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811080"/>
                <a:tab algn="l" pos="1725480"/>
                <a:tab algn="l" pos="2639880"/>
                <a:tab algn="l" pos="3554280"/>
                <a:tab algn="l" pos="4468680"/>
                <a:tab algn="l" pos="5383080"/>
                <a:tab algn="l" pos="6297480"/>
                <a:tab algn="l" pos="7211880"/>
                <a:tab algn="l" pos="8126280"/>
                <a:tab algn="l" pos="9040680"/>
                <a:tab algn="l" pos="9955080"/>
                <a:tab algn="l" pos="1086948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Tahoma"/>
                <a:ea typeface="標楷體"/>
              </a:rPr>
              <a:t>◎</a:t>
            </a:r>
            <a:r>
              <a:rPr b="1" lang="en-US" sz="2600" spc="-1" strike="noStrike">
                <a:solidFill>
                  <a:srgbClr val="3333cc"/>
                </a:solidFill>
                <a:latin typeface="Tahoma"/>
                <a:ea typeface="標楷體"/>
              </a:rPr>
              <a:t>作農業使用之農業用地，移轉與自然人時，得申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811080" indent="-811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811080"/>
                <a:tab algn="l" pos="1725480"/>
                <a:tab algn="l" pos="2639880"/>
                <a:tab algn="l" pos="3554280"/>
                <a:tab algn="l" pos="4468680"/>
                <a:tab algn="l" pos="5383080"/>
                <a:tab algn="l" pos="6297480"/>
                <a:tab algn="l" pos="7211880"/>
                <a:tab algn="l" pos="8126280"/>
                <a:tab algn="l" pos="9040680"/>
                <a:tab algn="l" pos="9955080"/>
                <a:tab algn="l" pos="1086948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Tahoma"/>
                <a:ea typeface="標楷體"/>
              </a:rPr>
              <a:t>   </a:t>
            </a:r>
            <a:r>
              <a:rPr b="1" lang="en-US" sz="2600" spc="-1" strike="noStrike">
                <a:solidFill>
                  <a:srgbClr val="3333cc"/>
                </a:solidFill>
                <a:latin typeface="Tahoma"/>
                <a:ea typeface="標楷體"/>
              </a:rPr>
              <a:t>請不課徵土地增值稅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811080" indent="-811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811080"/>
                <a:tab algn="l" pos="1725480"/>
                <a:tab algn="l" pos="2639880"/>
                <a:tab algn="l" pos="3554280"/>
                <a:tab algn="l" pos="4468680"/>
                <a:tab algn="l" pos="5383080"/>
                <a:tab algn="l" pos="6297480"/>
                <a:tab algn="l" pos="7211880"/>
                <a:tab algn="l" pos="8126280"/>
                <a:tab algn="l" pos="9040680"/>
                <a:tab algn="l" pos="9955080"/>
                <a:tab algn="l" pos="1086948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Tahoma"/>
                <a:ea typeface="標楷體"/>
              </a:rPr>
              <a:t>◎</a:t>
            </a:r>
            <a:r>
              <a:rPr b="1" lang="en-US" sz="2600" spc="-1" strike="noStrike">
                <a:solidFill>
                  <a:srgbClr val="3333cc"/>
                </a:solidFill>
                <a:latin typeface="Tahoma"/>
                <a:ea typeface="標楷體"/>
              </a:rPr>
              <a:t>信託土地，各關係人間移轉所有權</a:t>
            </a:r>
            <a:r>
              <a:rPr b="1" lang="en-US" sz="2600" spc="-1" strike="noStrike">
                <a:solidFill>
                  <a:srgbClr val="3333cc"/>
                </a:solidFill>
                <a:latin typeface="Tahoma"/>
                <a:ea typeface="標楷體"/>
              </a:rPr>
              <a:t>(</a:t>
            </a:r>
            <a:r>
              <a:rPr b="1" lang="en-US" sz="2600" spc="-1" strike="noStrike">
                <a:solidFill>
                  <a:srgbClr val="3333cc"/>
                </a:solidFill>
                <a:latin typeface="Tahoma"/>
                <a:ea typeface="標楷體"/>
              </a:rPr>
              <a:t>委託人、受託人</a:t>
            </a:r>
            <a:r>
              <a:rPr b="1" lang="en-US" sz="2600" spc="-1" strike="noStrike">
                <a:solidFill>
                  <a:srgbClr val="3333cc"/>
                </a:solidFill>
                <a:latin typeface="Tahoma"/>
                <a:ea typeface="標楷體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811080" indent="-811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811080"/>
                <a:tab algn="l" pos="1725480"/>
                <a:tab algn="l" pos="2639880"/>
                <a:tab algn="l" pos="3554280"/>
                <a:tab algn="l" pos="4468680"/>
                <a:tab algn="l" pos="5383080"/>
                <a:tab algn="l" pos="6297480"/>
                <a:tab algn="l" pos="7211880"/>
                <a:tab algn="l" pos="8126280"/>
                <a:tab algn="l" pos="9040680"/>
                <a:tab algn="l" pos="9955080"/>
                <a:tab algn="l" pos="1086948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Tahoma"/>
                <a:ea typeface="標楷體"/>
              </a:rPr>
              <a:t>◎</a:t>
            </a:r>
            <a:r>
              <a:rPr b="1" lang="en-US" sz="2600" spc="-1" strike="noStrike">
                <a:solidFill>
                  <a:srgbClr val="3333cc"/>
                </a:solidFill>
                <a:latin typeface="Tahoma"/>
                <a:ea typeface="標楷體"/>
              </a:rPr>
              <a:t>依民法第</a:t>
            </a:r>
            <a:r>
              <a:rPr b="1" lang="en-US" sz="2600" spc="-1" strike="noStrike">
                <a:solidFill>
                  <a:srgbClr val="3333cc"/>
                </a:solidFill>
                <a:latin typeface="Tahoma"/>
                <a:ea typeface="標楷體"/>
              </a:rPr>
              <a:t>1030</a:t>
            </a:r>
            <a:r>
              <a:rPr b="1" lang="en-US" sz="2600" spc="-1" strike="noStrike">
                <a:solidFill>
                  <a:srgbClr val="3333cc"/>
                </a:solidFill>
                <a:latin typeface="Tahoma"/>
                <a:ea typeface="標楷體"/>
              </a:rPr>
              <a:t>條之</a:t>
            </a:r>
            <a:r>
              <a:rPr b="1" lang="en-US" sz="2600" spc="-1" strike="noStrike">
                <a:solidFill>
                  <a:srgbClr val="3333cc"/>
                </a:solidFill>
                <a:latin typeface="Tahoma"/>
                <a:ea typeface="標楷體"/>
              </a:rPr>
              <a:t>1</a:t>
            </a:r>
            <a:r>
              <a:rPr b="1" lang="en-US" sz="2600" spc="-1" strike="noStrike">
                <a:solidFill>
                  <a:srgbClr val="3333cc"/>
                </a:solidFill>
                <a:latin typeface="Tahoma"/>
                <a:ea typeface="標楷體"/>
              </a:rPr>
              <a:t>行使剩餘財產差額分配請求權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811080" indent="-811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811080"/>
                <a:tab algn="l" pos="1725480"/>
                <a:tab algn="l" pos="2639880"/>
                <a:tab algn="l" pos="3554280"/>
                <a:tab algn="l" pos="4468680"/>
                <a:tab algn="l" pos="5383080"/>
                <a:tab algn="l" pos="6297480"/>
                <a:tab algn="l" pos="7211880"/>
                <a:tab algn="l" pos="8126280"/>
                <a:tab algn="l" pos="9040680"/>
                <a:tab algn="l" pos="9955080"/>
                <a:tab algn="l" pos="1086948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ahoma"/>
                <a:ea typeface="標楷體"/>
              </a:rPr>
              <a:t>減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811080" indent="-811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811080"/>
                <a:tab algn="l" pos="1725480"/>
                <a:tab algn="l" pos="2639880"/>
                <a:tab algn="l" pos="3554280"/>
                <a:tab algn="l" pos="4468680"/>
                <a:tab algn="l" pos="5383080"/>
                <a:tab algn="l" pos="6297480"/>
                <a:tab algn="l" pos="7211880"/>
                <a:tab algn="l" pos="8126280"/>
                <a:tab algn="l" pos="9040680"/>
                <a:tab algn="l" pos="9955080"/>
                <a:tab algn="l" pos="1086948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標楷體"/>
              </a:rPr>
              <a:t>◎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標楷體"/>
              </a:rPr>
              <a:t>重劃後第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標楷體"/>
              </a:rPr>
              <a:t>1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標楷體"/>
              </a:rPr>
              <a:t>次移轉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標楷體"/>
              </a:rPr>
              <a:t>--------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標楷體"/>
              </a:rPr>
              <a:t>減徵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標楷體"/>
              </a:rPr>
              <a:t>4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1080" indent="-811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811080"/>
                <a:tab algn="l" pos="1725480"/>
                <a:tab algn="l" pos="2639880"/>
                <a:tab algn="l" pos="3554280"/>
                <a:tab algn="l" pos="4468680"/>
                <a:tab algn="l" pos="5383080"/>
                <a:tab algn="l" pos="6297480"/>
                <a:tab algn="l" pos="7211880"/>
                <a:tab algn="l" pos="8126280"/>
                <a:tab algn="l" pos="9040680"/>
                <a:tab algn="l" pos="9955080"/>
                <a:tab algn="l" pos="1086948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標楷體"/>
              </a:rPr>
              <a:t>◎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標楷體"/>
              </a:rPr>
              <a:t>區段徵收領回抵價地後第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標楷體"/>
              </a:rPr>
              <a:t>1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標楷體"/>
              </a:rPr>
              <a:t>次移轉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標楷體"/>
              </a:rPr>
              <a:t>------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標楷體"/>
              </a:rPr>
              <a:t>減徵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標楷體"/>
              </a:rPr>
              <a:t>4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1080" indent="-811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11080"/>
                <a:tab algn="l" pos="1725480"/>
                <a:tab algn="l" pos="2639880"/>
                <a:tab algn="l" pos="3554280"/>
                <a:tab algn="l" pos="4468680"/>
                <a:tab algn="l" pos="5383080"/>
                <a:tab algn="l" pos="6297480"/>
                <a:tab algn="l" pos="7211880"/>
                <a:tab algn="l" pos="8126280"/>
                <a:tab algn="l" pos="9040680"/>
                <a:tab algn="l" pos="9955080"/>
                <a:tab algn="l" pos="108694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811080" indent="-811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11080"/>
                <a:tab algn="l" pos="1725480"/>
                <a:tab algn="l" pos="2639880"/>
                <a:tab algn="l" pos="3554280"/>
                <a:tab algn="l" pos="4468680"/>
                <a:tab algn="l" pos="5383080"/>
                <a:tab algn="l" pos="6297480"/>
                <a:tab algn="l" pos="7211880"/>
                <a:tab algn="l" pos="8126280"/>
                <a:tab algn="l" pos="9040680"/>
                <a:tab algn="l" pos="9955080"/>
                <a:tab algn="l" pos="108694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811080" indent="-811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811080"/>
                <a:tab algn="l" pos="1725480"/>
                <a:tab algn="l" pos="2639880"/>
                <a:tab algn="l" pos="3554280"/>
                <a:tab algn="l" pos="4468680"/>
                <a:tab algn="l" pos="5383080"/>
                <a:tab algn="l" pos="6297480"/>
                <a:tab algn="l" pos="7211880"/>
                <a:tab algn="l" pos="8126280"/>
                <a:tab algn="l" pos="9040680"/>
                <a:tab algn="l" pos="9955080"/>
                <a:tab algn="l" pos="108694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1080" indent="-811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811080"/>
                <a:tab algn="l" pos="1725480"/>
                <a:tab algn="l" pos="2639880"/>
                <a:tab algn="l" pos="3554280"/>
                <a:tab algn="l" pos="4468680"/>
                <a:tab algn="l" pos="5383080"/>
                <a:tab algn="l" pos="6297480"/>
                <a:tab algn="l" pos="7211880"/>
                <a:tab algn="l" pos="8126280"/>
                <a:tab algn="l" pos="9040680"/>
                <a:tab algn="l" pos="9955080"/>
                <a:tab algn="l" pos="108694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1080" indent="-811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811080"/>
                <a:tab algn="l" pos="1725480"/>
                <a:tab algn="l" pos="2639880"/>
                <a:tab algn="l" pos="3554280"/>
                <a:tab algn="l" pos="4468680"/>
                <a:tab algn="l" pos="5383080"/>
                <a:tab algn="l" pos="6297480"/>
                <a:tab algn="l" pos="7211880"/>
                <a:tab algn="l" pos="8126280"/>
                <a:tab algn="l" pos="9040680"/>
                <a:tab algn="l" pos="9955080"/>
                <a:tab algn="l" pos="108694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5400" spc="-1" strike="noStrike">
                <a:solidFill>
                  <a:srgbClr val="333399"/>
                </a:solidFill>
                <a:latin typeface="Tahoma"/>
                <a:ea typeface="標楷體"/>
              </a:rPr>
              <a:t>土地增值稅法令及實務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228600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1080" indent="-811080">
              <a:spcBef>
                <a:spcPts val="1001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1380960"/>
                <a:tab algn="l" pos="2295360"/>
                <a:tab algn="l" pos="3209760"/>
                <a:tab algn="l" pos="4124160"/>
                <a:tab algn="l" pos="5038560"/>
                <a:tab algn="l" pos="5952960"/>
                <a:tab algn="l" pos="6867360"/>
                <a:tab algn="l" pos="7781760"/>
                <a:tab algn="l" pos="8696160"/>
                <a:tab algn="l" pos="9610560"/>
                <a:tab algn="l" pos="10524960"/>
                <a:tab algn="l" pos="1078236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ahoma"/>
                <a:ea typeface="標楷體"/>
              </a:rPr>
              <a:t>農業用地移轉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811080" indent="0">
              <a:spcBef>
                <a:spcPts val="700"/>
              </a:spcBef>
              <a:buNone/>
              <a:tabLst>
                <a:tab algn="l" pos="0"/>
                <a:tab algn="l" pos="1380960"/>
                <a:tab algn="l" pos="2295360"/>
                <a:tab algn="l" pos="3209760"/>
                <a:tab algn="l" pos="4124160"/>
                <a:tab algn="l" pos="5038560"/>
                <a:tab algn="l" pos="5952960"/>
                <a:tab algn="l" pos="6867360"/>
                <a:tab algn="l" pos="7781760"/>
                <a:tab algn="l" pos="8696160"/>
                <a:tab algn="l" pos="9610560"/>
                <a:tab algn="l" pos="10524960"/>
                <a:tab algn="l" pos="1078236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標楷體"/>
              </a:rPr>
              <a:t>◎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標楷體"/>
              </a:rPr>
              <a:t>課徵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標楷體"/>
              </a:rPr>
              <a:t>-----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標楷體"/>
              </a:rPr>
              <a:t>一般移轉，不調高現值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811080" indent="0">
              <a:spcBef>
                <a:spcPts val="700"/>
              </a:spcBef>
              <a:buNone/>
              <a:tabLst>
                <a:tab algn="l" pos="0"/>
                <a:tab algn="l" pos="1380960"/>
                <a:tab algn="l" pos="2295360"/>
                <a:tab algn="l" pos="3209760"/>
                <a:tab algn="l" pos="4124160"/>
                <a:tab algn="l" pos="5038560"/>
                <a:tab algn="l" pos="5952960"/>
                <a:tab algn="l" pos="6867360"/>
                <a:tab algn="l" pos="7781760"/>
                <a:tab algn="l" pos="8696160"/>
                <a:tab algn="l" pos="9610560"/>
                <a:tab algn="l" pos="10524960"/>
                <a:tab algn="l" pos="1078236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標楷體"/>
              </a:rPr>
              <a:t>◎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標楷體"/>
              </a:rPr>
              <a:t>課徵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標楷體"/>
              </a:rPr>
              <a:t>-----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標楷體"/>
              </a:rPr>
              <a:t>一般移轉，調高現值（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標楷體"/>
              </a:rPr>
              <a:t>89/1/28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標楷體"/>
              </a:rPr>
              <a:t>符合作農業使用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811080" indent="0">
              <a:spcBef>
                <a:spcPts val="700"/>
              </a:spcBef>
              <a:buNone/>
              <a:tabLst>
                <a:tab algn="l" pos="0"/>
                <a:tab algn="l" pos="1380960"/>
                <a:tab algn="l" pos="2295360"/>
                <a:tab algn="l" pos="3209760"/>
                <a:tab algn="l" pos="4124160"/>
                <a:tab algn="l" pos="5038560"/>
                <a:tab algn="l" pos="5952960"/>
                <a:tab algn="l" pos="6867360"/>
                <a:tab algn="l" pos="7781760"/>
                <a:tab algn="l" pos="8696160"/>
                <a:tab algn="l" pos="9610560"/>
                <a:tab algn="l" pos="10524960"/>
                <a:tab algn="l" pos="1078236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標楷體"/>
              </a:rPr>
              <a:t>◎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標楷體"/>
              </a:rPr>
              <a:t>不課徵不調高現值（檢附農業用地作農業使用證明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811080" indent="0">
              <a:spcBef>
                <a:spcPts val="700"/>
              </a:spcBef>
              <a:buNone/>
              <a:tabLst>
                <a:tab algn="l" pos="0"/>
                <a:tab algn="l" pos="1380960"/>
                <a:tab algn="l" pos="2295360"/>
                <a:tab algn="l" pos="3209760"/>
                <a:tab algn="l" pos="4124160"/>
                <a:tab algn="l" pos="5038560"/>
                <a:tab algn="l" pos="5952960"/>
                <a:tab algn="l" pos="6867360"/>
                <a:tab algn="l" pos="7781760"/>
                <a:tab algn="l" pos="8696160"/>
                <a:tab algn="l" pos="9610560"/>
                <a:tab algn="l" pos="10524960"/>
                <a:tab algn="l" pos="1078236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標楷體"/>
              </a:rPr>
              <a:t>◎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標楷體"/>
              </a:rPr>
              <a:t>不課徵調高現值（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標楷體"/>
              </a:rPr>
              <a:t>89/1/28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標楷體"/>
              </a:rPr>
              <a:t>符合作農業使用；農業用地作農業使用證明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3T07:01:20Z</dcterms:created>
  <dc:creator>mike</dc:creator>
  <dc:description/>
  <dc:language>en-US</dc:language>
  <cp:lastModifiedBy>A33278</cp:lastModifiedBy>
  <cp:lastPrinted>2011-07-29T01:01:54Z</cp:lastPrinted>
  <dcterms:modified xsi:type="dcterms:W3CDTF">2011-07-29T00:32:09Z</dcterms:modified>
  <cp:revision>40</cp:revision>
  <dc:subject/>
  <dc:title>土地增值稅法令及實務</dc:title>
</cp:coreProperties>
</file>